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细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8CDE-B7E7-4637-88D0-ACA56BB135C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8E35-E83B-4F79-8E6B-77C10A3A03A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4D88-29FC-4C15-B76F-FE56B95B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661-2886-4D4E-BAAE-E4B724F2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1F7D-A60E-41DA-9EBA-4A959B25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D26-1BCD-472D-BE37-055E225D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264B-6009-4AE2-A245-692FB22D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B065-A831-47E2-BF71-5D4F9EC6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D40D-4D8F-4D50-866B-7BE0E1D9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F62B-6076-4326-85E6-762EA08D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ED13-8C3F-4C09-B8F2-89F26C06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28760" y="18864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EE30-EA2E-43CA-B1AB-19E76820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7323-7ED5-4956-BB7D-7EA52AB4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08E-6131-429F-9E0B-3F835D09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4477-58EF-4155-BDCD-DB9FFB4D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C709-8CBA-48A0-94AA-19F9E970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9FB9-3839-4CE2-926D-458B9EAE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994A-0246-4A42-BB44-62EA134D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52EC-A10B-4236-80DE-034E48A5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241-A24A-4363-A69F-48EB3FAD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28760" y="18864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3F9-17E5-47EF-BA68-B3B5EB15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A3C3-FBBA-4658-B4E4-290251E0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28760" y="18864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CFD2-75BC-4718-A2EC-00AA5049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0D9-93DB-44C7-8E46-8B8E7668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B92-E04F-4B22-9D86-A508345A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4AA8-6621-465D-870C-7BB20B8A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30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1112-C1E9-4208-B241-6F9FA37F4CC8}" type="slidenum"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8" descr=""/>
          <p:cNvPicPr/>
          <p:nvPr/>
        </p:nvPicPr>
        <p:blipFill>
          <a:blip r:embed="rId3"/>
          <a:srcRect l="0" t="0" r="2295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335240" y="165240"/>
            <a:ext cx="6553080" cy="653760"/>
            <a:chOff x="1335240" y="165240"/>
            <a:chExt cx="6553080" cy="653760"/>
          </a:xfrm>
        </p:grpSpPr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1335240" y="165240"/>
              <a:ext cx="2985840" cy="65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4373640" y="220680"/>
              <a:ext cx="351468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7419960" y="6278400"/>
            <a:ext cx="172404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66560" y="13442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0B98-89DA-4FAF-98C4-1EB2D0B6F1B3}" type="slidenum"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25600" y="2068560"/>
            <a:ext cx="7983360" cy="292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8" descr=""/>
          <p:cNvPicPr/>
          <p:nvPr/>
        </p:nvPicPr>
        <p:blipFill>
          <a:blip r:embed="rId3"/>
          <a:srcRect l="0" t="0" r="2295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280" y="5891040"/>
            <a:ext cx="238140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82880" y="2228040"/>
            <a:ext cx="13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热文本的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5760" y="1054440"/>
            <a:ext cx="57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2.2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的工具箱使用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7880" y="16088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.2.6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使用文本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6720" y="3084120"/>
            <a:ext cx="846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版的几何画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增加了文本编辑的快捷方式，简称热文本。可通过鼠标单击对象插入热文本，鼠标移过热文本也会动态显示相关联对象。如果说以往更关注几何上的动态，新版中开始关注并逐步实现公式、变量、数据等文本的全息动态交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9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利用热文本功能插入标签和数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85760" y="1054440"/>
            <a:ext cx="57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2.2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的工具箱使用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7120" y="160884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.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使用标记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88480" y="2201040"/>
            <a:ext cx="10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9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利用标记工具标记角度、线段和手写标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8440" y="333468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.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使用信息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96280" y="401400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1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利用信息工具显示对象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2240" y="4973040"/>
            <a:ext cx="17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.2.9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使用自定义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657680" y="2916360"/>
            <a:ext cx="31910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36400" y="2248920"/>
            <a:ext cx="817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几何画板的动画功能可以使一个点在一条路径（点、线、圆、轨迹）上运动，使图形由静态变成动态。利用动画配合几何画板的其他功能可以绘制美观、有趣或带有装饰的动态图形。如果要观察对象的运动轨迹时，一般利用到画板的动画功能。利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操作类按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动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命令，可以实现动画功能并且在画板上产生一个动画按钮。用鼠标单击它就可以运行定义的动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9000" y="1068840"/>
            <a:ext cx="57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2.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操作类按钮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9000" y="163440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3.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画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6960" y="3431520"/>
            <a:ext cx="15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滚动的车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7720" y="4651560"/>
            <a:ext cx="837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动画功能是通过“一个点沿着一条路径运动”而产生的几何图形的动态变化的效果，在几何画板中，另外一种产生动态变化效果的功能是“移动”。移动功能是定义“点到点的运动”。利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操作类按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移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命令，可以在画板上产生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移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，从而实现移动功能。在定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移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前，需要选择一对点，其中一个点是将要移动的点，另外一个点是将要移动到的目标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0560" y="384480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3.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移动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56800" y="5814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1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移动的喜羊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32080" y="1634400"/>
            <a:ext cx="17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隐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显示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9680" y="2283840"/>
            <a:ext cx="83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隐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可以实现几何对象的显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隐藏。操作方法是选中需要控制隐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显示状态的一组对象，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操作类按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隐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命令，在画板上就会出现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隐藏对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，然后设置其动作属性，即可制作相应的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9480" y="326160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13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显示隐藏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00" y="38109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列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4484160"/>
            <a:ext cx="835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面讨论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动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移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隐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，都可以让我们在几何画板中实现几何图形的动态效果，有时在处理复杂运动时可能要用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。依次选中两个或两个以上的按钮，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操作类按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命令，就可以构造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。单击这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就可以执行，执行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就相当于顺序地执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中所包含的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840" y="577152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14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角形的分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9000" y="1068840"/>
            <a:ext cx="57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2.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操作类按钮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16240" y="163440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链接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6560" y="2287440"/>
            <a:ext cx="83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操作类按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还有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链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命令，使用此命令可以链接到因特网上的资源、进行本机文件的超级链接，还可以实现几何画板文件中各页面间的跳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3640" y="292680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链接到因特网上的资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4520" y="378396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实现本地文件的超级链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51280" y="47268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链接到几何画板文件中不同的页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9000" y="1068840"/>
            <a:ext cx="57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2.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操作类按钮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49360" y="163440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3.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声音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9560" y="2315160"/>
            <a:ext cx="85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几何画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操作类按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新增加了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声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命令，这是一个很有趣的功能，利用它构造出听函数的按钮，单击它会发出由这个函数图像表示的声波产生的声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2920" y="315828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15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听三角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9000" y="1068840"/>
            <a:ext cx="57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2.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操作类按钮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071880" y="2809800"/>
            <a:ext cx="421956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69720" y="2320920"/>
            <a:ext cx="847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操作类按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最后一个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滚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命令，它的使用是当页面内容很多，无法全部显示时，可以利用这个按钮控制整个屏幕的滚动（相当于其它软件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书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功能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4840" y="164952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3.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滚动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00" y="1068840"/>
            <a:ext cx="57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2.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操作类按钮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52480" y="2987640"/>
            <a:ext cx="4727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2.1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的文件、对象操作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1000" y="1019160"/>
            <a:ext cx="822960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黑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黑体"/>
              </a:rPr>
              <a:t>章 几何画板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黑体"/>
              </a:rPr>
              <a:t>的基本操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8200" y="4618080"/>
            <a:ext cx="51703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2.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操作类按钮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1080" y="3822840"/>
            <a:ext cx="5497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2.2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的工具箱使用方法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2360" y="2119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识要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15"/>
          <p:cNvSpPr txBox="1"/>
          <p:nvPr/>
        </p:nvSpPr>
        <p:spPr>
          <a:xfrm>
            <a:off x="1482840" y="1260360"/>
            <a:ext cx="194292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39" name=""/>
          <p:cNvSpPr/>
          <p:nvPr/>
        </p:nvSpPr>
        <p:spPr>
          <a:xfrm>
            <a:off x="239760" y="18874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创建新画板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101600"/>
            <a:ext cx="4727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2.1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的文件、对象操作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7440" y="2650320"/>
            <a:ext cx="53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文件的保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349880" y="1841400"/>
            <a:ext cx="4605120" cy="3440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0760" y="3575160"/>
            <a:ext cx="396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画板包括以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种保存格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几何画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档格式，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gs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几何画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档格式，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gs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页格式，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ht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增强图元文件，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ef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0400" y="55080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1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打开和关闭画板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36480" y="1705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鼠标、键盘的操作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101600"/>
            <a:ext cx="4727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2.1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的文件、对象操作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73680" y="2316960"/>
            <a:ext cx="14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鼠标的操作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8840" y="292680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鼠标的操作包括：单击、右键单击、双击、拖动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7840" y="3782160"/>
            <a:ext cx="14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键盘的操作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1720" y="4592520"/>
            <a:ext cx="78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里主要是指快捷键的使用。为了更快的实现操作功能，几何画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其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许多程序一样，提供了快捷键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5760" y="1054440"/>
            <a:ext cx="57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2.2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的工具箱使用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800" y="163764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使用箭头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99960" y="2122200"/>
            <a:ext cx="25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利用移动箭头工具选择和拖动对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择和拖动点、线段和多个对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60280" y="3458880"/>
            <a:ext cx="214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利用旋转箭头工具旋转对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旋转一个四边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07800" y="4930560"/>
            <a:ext cx="214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利用缩放箭头工具缩放对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3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缩放一个四边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85760" y="1054440"/>
            <a:ext cx="57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2.2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的工具箱使用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0360" y="16376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使用点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7640" y="218052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．绘制自由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880" y="2790360"/>
            <a:ext cx="179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．绘制对象上的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38600" y="3963600"/>
            <a:ext cx="179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．绘制对象的交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4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绘制直线和圆的交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5760" y="1054440"/>
            <a:ext cx="57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2.2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的工具箱使用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1520" y="16088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使用圆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5520" y="2259360"/>
            <a:ext cx="726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圆工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主要功能是用于画圆。选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工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后在绘图板上拖动即可画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5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使用圆工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965240" y="3247920"/>
            <a:ext cx="4862520" cy="2735280"/>
            <a:chOff x="1965240" y="3247920"/>
            <a:chExt cx="4862520" cy="273528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1965240" y="3770640"/>
              <a:ext cx="4862520" cy="22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417400" y="3378600"/>
              <a:ext cx="1055160" cy="392040"/>
            </a:xfrm>
            <a:prstGeom prst="wedgeRectCallout">
              <a:avLst>
                <a:gd name="adj1" fmla="val 57777"/>
                <a:gd name="adj2" fmla="val 1628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未填充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33120" y="3247920"/>
              <a:ext cx="1055160" cy="392040"/>
            </a:xfrm>
            <a:prstGeom prst="wedgeRectCallout">
              <a:avLst>
                <a:gd name="adj1" fmla="val -49365"/>
                <a:gd name="adj2" fmla="val 176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填充内部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85760" y="1054440"/>
            <a:ext cx="57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2.2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的工具箱使用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8560" y="1608840"/>
            <a:ext cx="18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.2.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使用线段直尺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51960" y="2142360"/>
            <a:ext cx="9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6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用线段直尺工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880" y="3188520"/>
            <a:ext cx="17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.2.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使用多边形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78880" y="3725280"/>
            <a:ext cx="9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7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用多边形工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85760" y="1054440"/>
            <a:ext cx="57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2.2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的工具箱使用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4480" y="16088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.2.6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使用文本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2920" y="211716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创建注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5480" y="271692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改变文本的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008000" y="3097080"/>
            <a:ext cx="7538760" cy="1857240"/>
            <a:chOff x="1008000" y="3097080"/>
            <a:chExt cx="7538760" cy="1857240"/>
          </a:xfrm>
        </p:grpSpPr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008000" y="3475440"/>
              <a:ext cx="6389280" cy="91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"/>
            <p:cNvGrpSpPr/>
            <p:nvPr/>
          </p:nvGrpSpPr>
          <p:grpSpPr>
            <a:xfrm>
              <a:off x="1605240" y="3097080"/>
              <a:ext cx="6941520" cy="1857240"/>
              <a:chOff x="1605240" y="3097080"/>
              <a:chExt cx="6941520" cy="185724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1605240" y="3097080"/>
                <a:ext cx="799560" cy="984960"/>
                <a:chOff x="1605240" y="3097080"/>
                <a:chExt cx="799560" cy="984960"/>
              </a:xfrm>
            </p:grpSpPr>
            <p:sp>
              <p:nvSpPr>
                <p:cNvPr id="181" name=""/>
                <p:cNvSpPr/>
                <p:nvPr/>
              </p:nvSpPr>
              <p:spPr>
                <a:xfrm flipV="1">
                  <a:off x="2094840" y="3403800"/>
                  <a:ext cx="0" cy="67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605240" y="3097080"/>
                  <a:ext cx="79956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字体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873600" y="3113280"/>
                <a:ext cx="799560" cy="961920"/>
                <a:chOff x="3873600" y="3113280"/>
                <a:chExt cx="799560" cy="961920"/>
              </a:xfrm>
            </p:grpSpPr>
            <p:sp>
              <p:nvSpPr>
                <p:cNvPr id="184" name=""/>
                <p:cNvSpPr/>
                <p:nvPr/>
              </p:nvSpPr>
              <p:spPr>
                <a:xfrm flipV="1">
                  <a:off x="4248720" y="3396600"/>
                  <a:ext cx="0" cy="67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873600" y="3113280"/>
                  <a:ext cx="79956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字号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5293080" y="4209480"/>
                <a:ext cx="799560" cy="737280"/>
                <a:chOff x="5293080" y="4209480"/>
                <a:chExt cx="799560" cy="737280"/>
              </a:xfrm>
            </p:grpSpPr>
            <p:sp>
              <p:nvSpPr>
                <p:cNvPr id="187" name=""/>
                <p:cNvSpPr/>
                <p:nvPr/>
              </p:nvSpPr>
              <p:spPr>
                <a:xfrm flipV="1">
                  <a:off x="5694480" y="4209480"/>
                  <a:ext cx="0" cy="33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293080" y="4607640"/>
                  <a:ext cx="79956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粗体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5733720" y="3097080"/>
                <a:ext cx="799560" cy="847440"/>
                <a:chOff x="5733720" y="3097080"/>
                <a:chExt cx="799560" cy="847440"/>
              </a:xfrm>
            </p:grpSpPr>
            <p:sp>
              <p:nvSpPr>
                <p:cNvPr id="190" name=""/>
                <p:cNvSpPr/>
                <p:nvPr/>
              </p:nvSpPr>
              <p:spPr>
                <a:xfrm flipV="1">
                  <a:off x="6108840" y="3386880"/>
                  <a:ext cx="0" cy="55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733720" y="3097080"/>
                  <a:ext cx="79956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斜体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4656960" y="3097080"/>
                <a:ext cx="799560" cy="1018080"/>
                <a:chOff x="4656960" y="3097080"/>
                <a:chExt cx="799560" cy="1018080"/>
              </a:xfrm>
            </p:grpSpPr>
            <p:sp>
              <p:nvSpPr>
                <p:cNvPr id="193" name=""/>
                <p:cNvSpPr/>
                <p:nvPr/>
              </p:nvSpPr>
              <p:spPr>
                <a:xfrm flipV="1">
                  <a:off x="5032080" y="3410280"/>
                  <a:ext cx="0" cy="704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56960" y="3097080"/>
                  <a:ext cx="79956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颜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6190560" y="4284720"/>
                <a:ext cx="799560" cy="669600"/>
                <a:chOff x="6190560" y="4284720"/>
                <a:chExt cx="799560" cy="669600"/>
              </a:xfrm>
            </p:grpSpPr>
            <p:sp>
              <p:nvSpPr>
                <p:cNvPr id="196" name=""/>
                <p:cNvSpPr/>
                <p:nvPr/>
              </p:nvSpPr>
              <p:spPr>
                <a:xfrm flipV="1">
                  <a:off x="6591960" y="4284720"/>
                  <a:ext cx="0" cy="33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190560" y="4615200"/>
                  <a:ext cx="79956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下划线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6924960" y="4114800"/>
                <a:ext cx="1621800" cy="804960"/>
                <a:chOff x="6924960" y="4114800"/>
                <a:chExt cx="1621800" cy="804960"/>
              </a:xfrm>
            </p:grpSpPr>
            <p:sp>
              <p:nvSpPr>
                <p:cNvPr id="199" name=""/>
                <p:cNvSpPr/>
                <p:nvPr/>
              </p:nvSpPr>
              <p:spPr>
                <a:xfrm flipV="1">
                  <a:off x="7454520" y="4114800"/>
                  <a:ext cx="1080" cy="515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924960" y="4613040"/>
                  <a:ext cx="162180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数学符号面板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7054920" y="4131360"/>
                  <a:ext cx="39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945720" y="4838040"/>
            <a:ext cx="11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标签的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61480" y="5379480"/>
            <a:ext cx="8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改变点对象的标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9:53:19Z</dcterms:created>
  <dc:creator/>
  <dc:description/>
  <cp:keywords/>
  <dc:language>en-US</dc:language>
  <cp:lastModifiedBy>Administrator</cp:lastModifiedBy>
  <cp:lastPrinted>1899-12-30T00:00:00Z</cp:lastPrinted>
  <dcterms:modified xsi:type="dcterms:W3CDTF">2012-06-14T15:36:22Z</dcterms:modified>
  <cp:revision>2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