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B16-227B-48A9-B218-4E01F74D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B17-0FBF-4E11-B652-97D3842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4EA-DC14-4827-9CF5-4C370F68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5C4-58AA-41DC-B6DF-43868C3E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5FC-2F4C-4801-A96F-11F432BF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841E-B4BD-4669-B614-407CC8A4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D7D-C0BD-425A-94E2-00CFBC4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226-A60E-467C-B836-2551F0C5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6560-BCC5-48C9-A3F4-5762466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CD0-FA31-4A56-A0B9-8049FF1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847-0A34-45C5-A1AA-D8E90B19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5BD-B623-4E6A-9C46-09CE177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470-7239-439C-86B1-DF7D7D6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039-0DB5-4582-BF31-442FDC7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6BDE-121C-4F96-833D-35AEB48E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7296-A396-46CA-BA8D-7FFDD8E0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4ECA-D53E-43CF-B0DB-DDA51D13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44A-A65D-4F3C-B3FD-A747EC84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AD3-918C-4637-B2D4-E8F9E7B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8A4-48CF-41F0-868E-68C64B9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249-5E22-4282-A2E1-8956910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2DC-9B9C-49AE-B26D-2BF9AE2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6B3-92E6-40CC-A83F-D62164B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808-5F3D-42B0-90B0-4C93276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92F-A4C8-4986-90EC-AD1518B6E6F5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335240" y="165240"/>
            <a:ext cx="6553080" cy="653760"/>
            <a:chOff x="1335240" y="165240"/>
            <a:chExt cx="6553080" cy="6537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1335240" y="165240"/>
              <a:ext cx="298584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4373640" y="220680"/>
              <a:ext cx="351468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419960" y="6278400"/>
            <a:ext cx="172404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6560" y="1344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3B6-99AA-428D-BF28-69F3505B95B7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600" y="2068560"/>
            <a:ext cx="7983360" cy="29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5891040"/>
            <a:ext cx="238140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6080" y="16009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旋转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6320" y="21884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9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正五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22280" y="270288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标记角度控制三角形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旋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变换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3320" y="3429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缩放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6680" y="3917160"/>
            <a:ext cx="37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固定的比和标记比控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1840" y="475848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射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5320" y="544608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一条线的轴对称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945040" y="1125360"/>
            <a:ext cx="2000520" cy="196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48200" y="3127320"/>
            <a:ext cx="2816280" cy="1482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176800" y="4832280"/>
            <a:ext cx="194616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变换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2640" y="15724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迭代与深度迭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28480" y="2164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一个正二十边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61360" y="3102840"/>
            <a:ext cx="23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斐波那契数列的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8200" y="39729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分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43200" y="47124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毕达哥拉斯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916440" y="1434960"/>
            <a:ext cx="1401840" cy="1521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041720" y="3067200"/>
            <a:ext cx="3832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4960" y="109584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利用数据和绘图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7200" y="162972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参数构造动态函数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040" y="2160720"/>
            <a:ext cx="79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参数可以进行计算、构造可控制的动态图形、建立动态的函数解析式、控制图形的变换、控制对象的颜色变化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9800" y="30744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6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动态二次函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2880" y="40158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坐标系中绘制函数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41680" y="4688640"/>
            <a:ext cx="6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、隐藏坐标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19880" y="553176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坐标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11600" y="3016080"/>
            <a:ext cx="3429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74960" y="109584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利用数据和绘图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9040" y="2231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7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绘制点的方法绘制函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图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800" y="164880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坐标系中绘制函数图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2120" y="29250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数据制表绘制函数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63520" y="361872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角形内接矩形面积变化的图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94120" y="2928960"/>
            <a:ext cx="3448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2480" y="298764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工具箱绘制简单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1019160"/>
            <a:ext cx="82296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章 几何画板</a:t>
            </a: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的绘图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0160" y="4618080"/>
            <a:ext cx="5170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变换菜单绘制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3822840"/>
            <a:ext cx="5497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构造菜单绘制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2360" y="2119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7480" y="52804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利用数据和绘图菜单绘制图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11720" y="1670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多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3440" y="110016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工具箱绘制简单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7200" y="2095200"/>
            <a:ext cx="11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绘制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工具箱的工具绘制等边三角形、等腰三角形、直角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等边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9000" y="36338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等腰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58720" y="437292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直角三角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38240" y="4719600"/>
            <a:ext cx="2333520" cy="199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02200" y="4621320"/>
            <a:ext cx="194292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834080" y="2755800"/>
            <a:ext cx="26492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1720" y="1670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多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3440" y="110016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工具箱绘制简单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2960" y="211464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绘制四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65752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正方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440" y="331164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三角形的外接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7280" y="457200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线段的垂直平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44560" y="39236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三角形的外接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52560" y="52268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线段的垂直平分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92840" y="1446120"/>
            <a:ext cx="1882800" cy="1741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741840" y="3164040"/>
            <a:ext cx="210492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958000" y="4226040"/>
            <a:ext cx="280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61800" y="167076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利用标记工具手绘和标记图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440" y="1100160"/>
            <a:ext cx="4727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1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工具箱绘制简单图形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25000" y="21740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沿手绘路径运动的月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95520" y="2595600"/>
            <a:ext cx="5105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构造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3280" y="1588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对象上的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9920" y="203112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线段上的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3840" y="26391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两个对象的交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68560" y="319824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9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直线和圆的交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2800" y="41918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三角形的中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91120" y="4907880"/>
            <a:ext cx="19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三角形的中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6520" y="2657520"/>
            <a:ext cx="3714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4960" y="16581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线段的中垂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构造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160" y="2160000"/>
            <a:ext cx="19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线段的中垂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0920" y="32299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已知线段的平行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4200" y="3903120"/>
            <a:ext cx="19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线段的平行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7320" y="47444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已知角的平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62600" y="55317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三角形的内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30760" y="3546360"/>
            <a:ext cx="2562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构造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51280" y="168696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圆、圆上的弧、过三点的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1520" y="231696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三个同心圆、圆上的弧、过三点的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51440" y="292968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圆的内部、多边的内部、扇形的内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92040" y="3531600"/>
            <a:ext cx="9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造圆的内部、三角形的内部和扇形及其内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1320" y="435852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.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构造轨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86000" y="5031720"/>
            <a:ext cx="23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椭圆定义构造椭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21240" y="4041720"/>
            <a:ext cx="28033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6080" y="109584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3.3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利用变换菜单绘制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7560" y="17010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记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0240" y="2415960"/>
            <a:ext cx="779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下的标记功能主要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中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镜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角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向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记距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4120" y="3015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移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1240" y="3452040"/>
            <a:ext cx="54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向右平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向上平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得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’B’C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08120" y="3917880"/>
            <a:ext cx="2791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9:53:19Z</dcterms:created>
  <dc:creator/>
  <dc:description/>
  <cp:keywords/>
  <dc:language>en-US</dc:language>
  <cp:lastModifiedBy>Administrator</cp:lastModifiedBy>
  <cp:lastPrinted>1899-12-30T00:00:00Z</cp:lastPrinted>
  <dcterms:modified xsi:type="dcterms:W3CDTF">2012-06-14T15:32:42Z</dcterms:modified>
  <cp:revision>2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