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6B40-6B57-4641-B987-1203A108CB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3F52-989C-4B68-A8CF-8F184DD839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DFB-F5EC-4867-8E58-890A0532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D9F-8FF6-477C-A4DC-25FCDB7A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0C4-7A8B-4E24-92C6-977F8933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04E-46DC-4585-9BCB-F5D4515A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4C79-03B9-4C7A-974A-BC187909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87A5-0C36-436D-B613-1FF17F01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3A2E-6924-456A-BBEC-599B6B5D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121E-B421-4E93-9611-282468DE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2B2C-8453-4AC1-BB74-ACB06107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760" y="18864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B7DD-668D-4075-B6D4-814CE1B1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CD9E-A414-49EE-A747-A25F3A74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4B9-8CF2-4E40-8171-00E22212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1C8D-2BFA-4C49-84B5-6BB27D83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DD50-7702-436D-BFE7-EEFBF322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1A3D-D848-4B56-B217-480D589A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9B9A-41FF-4780-B853-87541670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98FF-B369-443E-B657-E3A52022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83B-43DC-41C2-8806-4EEFDC71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28760" y="18864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E2B-A4FC-4974-986C-98765C18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827-F43E-431A-A1F0-A905E768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28760" y="18864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03F-CCB9-4F87-A384-ACF8DCC0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F27-0834-4DD3-8462-406CB381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4C0-0E67-4535-A1CA-271F8FF4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AD9-E653-46ED-B987-A2A3120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30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DCBA-630E-4123-A9CB-0644AF163A15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8" descr=""/>
          <p:cNvPicPr/>
          <p:nvPr/>
        </p:nvPicPr>
        <p:blipFill>
          <a:blip r:embed="rId3"/>
          <a:srcRect l="0" t="0" r="2295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335240" y="165240"/>
            <a:ext cx="6553080" cy="653760"/>
            <a:chOff x="1335240" y="165240"/>
            <a:chExt cx="6553080" cy="653760"/>
          </a:xfrm>
        </p:grpSpPr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1335240" y="165240"/>
              <a:ext cx="2985840" cy="6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4373640" y="220680"/>
              <a:ext cx="351468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7419960" y="6278400"/>
            <a:ext cx="172404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6560" y="13442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459E-C16C-47EB-8B56-088DAD7997D8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5600" y="2068560"/>
            <a:ext cx="7983360" cy="292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8" descr=""/>
          <p:cNvPicPr/>
          <p:nvPr/>
        </p:nvPicPr>
        <p:blipFill>
          <a:blip r:embed="rId3"/>
          <a:srcRect l="0" t="0" r="2295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5891040"/>
            <a:ext cx="238140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-96840" y="1408320"/>
            <a:ext cx="82026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4880" bIns="16488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的文件参数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600" y="1108080"/>
            <a:ext cx="6162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2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作界面和工作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240" y="1863000"/>
            <a:ext cx="903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．参数选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编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菜单下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参数选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选项，进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参数选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话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1-10" descr=""/>
          <p:cNvPicPr/>
          <p:nvPr/>
        </p:nvPicPr>
        <p:blipFill>
          <a:blip r:embed="rId2"/>
          <a:stretch/>
        </p:blipFill>
        <p:spPr>
          <a:xfrm>
            <a:off x="2600280" y="2604960"/>
            <a:ext cx="35053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96840" y="1408320"/>
            <a:ext cx="82026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4880" bIns="16488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的文件参数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600" y="1108080"/>
            <a:ext cx="6148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2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作界面和工作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120" y="1825200"/>
            <a:ext cx="90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高级参数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，单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下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级参数选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035080" y="2584440"/>
            <a:ext cx="44532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600" y="1108080"/>
            <a:ext cx="6148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3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课件与课程整合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2920" y="1761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课件在新课程中的具体应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9760" y="2322360"/>
            <a:ext cx="5524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几何画板课件整合于“数与代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几何画板课件整合于“空间与图形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几何画板课件整合于“统计与概率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几何画板课件整合于“综合应用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600" y="1108080"/>
            <a:ext cx="6148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3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课件与课程整合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2920" y="1761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.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课件与新课程整合的模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92600" y="2359800"/>
            <a:ext cx="17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基于课堂的常规模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42000" y="3202920"/>
            <a:ext cx="21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基于课堂的探究协作型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48840" y="4058640"/>
            <a:ext cx="22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基于网络的研究性学习模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46040" y="2973240"/>
            <a:ext cx="3014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1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1000" y="1019160"/>
            <a:ext cx="82296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章  进入几何画板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黑体"/>
              </a:rPr>
              <a:t>的精彩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1760" y="4603680"/>
            <a:ext cx="51703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3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课件与课程整合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4640" y="3808440"/>
            <a:ext cx="5497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2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作界面和工作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2360" y="2119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要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15"/>
          <p:cNvSpPr txBox="1"/>
          <p:nvPr/>
        </p:nvSpPr>
        <p:spPr>
          <a:xfrm>
            <a:off x="1482840" y="1260360"/>
            <a:ext cx="194292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9" name=""/>
          <p:cNvSpPr/>
          <p:nvPr/>
        </p:nvSpPr>
        <p:spPr>
          <a:xfrm>
            <a:off x="274680" y="183204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的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要有以下功能：计算机上的直尺和圆规；测量和计算功能；绘制多种函数图像；制作复杂的动画；保持和突出几何关系；自定义工具功能；动态演示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40" y="2916720"/>
            <a:ext cx="870120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4880" bIns="164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的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动态性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交互性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探索性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简洁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520" y="4214160"/>
            <a:ext cx="78645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4880" bIns="164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新增特性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版本在许多方面的功能较之以前版本都得到了加强，有的功能更是发生了质的飞跃，其中主要以下几个方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320" y="1079640"/>
            <a:ext cx="3986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1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08400" y="1482840"/>
            <a:ext cx="301932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16120" y="23907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便捷的图片处理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9000" y="482832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增强了的热文本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165560" y="4324320"/>
            <a:ext cx="3505320" cy="199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320" y="1079640"/>
            <a:ext cx="3986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1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4160" y="227268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增强的图形标记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755880" y="1535040"/>
            <a:ext cx="3972240" cy="2781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07040" y="511740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代数功能的扩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135320" y="4048200"/>
            <a:ext cx="3343320" cy="2238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320" y="1079640"/>
            <a:ext cx="3986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1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2440" y="217260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几何功能的扩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20" y="1079640"/>
            <a:ext cx="3986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1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13320" y="1554120"/>
            <a:ext cx="3638520" cy="2771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19560" y="466812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显示方面的改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005280" y="4470480"/>
            <a:ext cx="3800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16960" y="1459440"/>
            <a:ext cx="197748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4880" bIns="164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的工作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61960" y="1959120"/>
            <a:ext cx="5846760" cy="4095720"/>
            <a:chOff x="1461960" y="1959120"/>
            <a:chExt cx="5846760" cy="409572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1461960" y="1959120"/>
              <a:ext cx="5846760" cy="409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"/>
            <p:cNvGrpSpPr/>
            <p:nvPr/>
          </p:nvGrpSpPr>
          <p:grpSpPr>
            <a:xfrm>
              <a:off x="2071800" y="2946960"/>
              <a:ext cx="3385800" cy="2702520"/>
              <a:chOff x="2071800" y="2946960"/>
              <a:chExt cx="3385800" cy="2702520"/>
            </a:xfrm>
          </p:grpSpPr>
          <p:sp>
            <p:nvSpPr>
              <p:cNvPr id="162" name=""/>
              <p:cNvSpPr/>
              <p:nvPr/>
            </p:nvSpPr>
            <p:spPr>
              <a:xfrm>
                <a:off x="2071800" y="3092040"/>
                <a:ext cx="866160" cy="435960"/>
              </a:xfrm>
              <a:prstGeom prst="wedgeRoundRectCallout">
                <a:avLst>
                  <a:gd name="adj1" fmla="val -68939"/>
                  <a:gd name="adj2" fmla="val 138819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工具箱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59720" y="3615120"/>
                <a:ext cx="925200" cy="551880"/>
              </a:xfrm>
              <a:prstGeom prst="wedgeRoundRectCallout">
                <a:avLst>
                  <a:gd name="adj1" fmla="val -45541"/>
                  <a:gd name="adj2" fmla="val 102291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绘图区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42760" y="5242680"/>
                <a:ext cx="846360" cy="406800"/>
              </a:xfrm>
              <a:prstGeom prst="wedgeRoundRectCallout">
                <a:avLst>
                  <a:gd name="adj1" fmla="val -95402"/>
                  <a:gd name="adj2" fmla="val 120967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状态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54320" y="3062880"/>
                <a:ext cx="865800" cy="435960"/>
              </a:xfrm>
              <a:prstGeom prst="wedgeRoundRectCallout">
                <a:avLst>
                  <a:gd name="adj1" fmla="val -136578"/>
                  <a:gd name="adj2" fmla="val -156666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标题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11240" y="2946960"/>
                <a:ext cx="846360" cy="406440"/>
              </a:xfrm>
              <a:prstGeom prst="wedgeRoundRectCallout">
                <a:avLst>
                  <a:gd name="adj1" fmla="val -79458"/>
                  <a:gd name="adj2" fmla="val -197694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菜单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12600" y="1108080"/>
            <a:ext cx="6148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2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作界面和工作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94640" y="1545120"/>
            <a:ext cx="189972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4880" bIns="164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的工具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49720" y="1797120"/>
            <a:ext cx="2895480" cy="3881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76280" y="2381400"/>
            <a:ext cx="25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几何画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工具箱比几何画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增了多边形、画笔标记和信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种工具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600" y="1108080"/>
            <a:ext cx="6148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2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作界面和工作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74760" y="2437920"/>
            <a:ext cx="820260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4880" bIns="1648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的菜单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几何画板的功能菜单栏包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菜单。它们都是下拉式菜单，每个下拉式菜单包含若干个命令子菜单，几何画板的大部分功能都是通过这些菜单命令完成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.4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几何画板的状态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几何画板的状态栏位于画板的最下方，它用于显示用户当前的工作状态。根据这些提示，用户可以更明确的进行自已的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00" y="1136520"/>
            <a:ext cx="6148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1.2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几何画板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5.0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黑体"/>
              </a:rPr>
              <a:t>的工作界面和工作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60360" y="3413160"/>
            <a:ext cx="79581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9:53:19Z</dcterms:created>
  <dc:creator/>
  <dc:description/>
  <cp:keywords/>
  <dc:language>en-US</dc:language>
  <cp:lastModifiedBy>Administrator</cp:lastModifiedBy>
  <cp:lastPrinted>1899-12-30T00:00:00Z</cp:lastPrinted>
  <dcterms:modified xsi:type="dcterms:W3CDTF">2010-06-09T15:22:55Z</dcterms:modified>
  <cp:revision>17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