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5AC-8DF8-44AE-B038-18DA2BCA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BE6-FC6C-4924-8D91-11E3B293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592-EFC2-4918-9333-52800AB2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744-00E2-4178-ADA1-FF4DC18F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BF45-9719-48D3-888E-BA87A00B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14F8-9F86-4FCB-ABB1-B50E5E8C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0B33-FCE9-4C83-9823-19D9E339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FEFA-2981-4FEE-94FB-AA9895A5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F772-1BA1-4CF2-856B-CC43C940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1023-4FD7-461D-AC58-90F4AC85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9C88-5428-470A-BABB-4289589A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50A-75DA-4C45-A7B8-3619F938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BC83-3C7F-4B8E-B4F2-EA219CF0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908C-200B-4933-B2F2-DC63E544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961E-D3E5-4722-9A4C-4B909EA7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D0E8-9ADE-438F-A9A8-780F9558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3055-F6D0-4960-B25C-3A99353E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057-395F-4FE4-A199-D97B8147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743-DCD7-4E52-BFD4-5615FBD6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005-2072-44D2-9EFE-85EFA764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EF1-030E-491C-973D-06690BE0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A32-3E8D-48E8-BA6D-E200403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AA9-FFA6-4D00-B9FB-E7872903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94C-4FE6-4BFF-921E-0A59C3D4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C17E-D167-46AA-ABCF-F4355A800EB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6046-D58D-4B14-A274-491872F7E40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40400" y="21492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零均值化的上机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6604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vie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软件的主窗口命令行中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calar m=@mean(w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标量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cala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象名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@mea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序列均值函数，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@mean(ww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计算序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样本均值。输入命令后回车，工作文件窗口出现标量，双击该对象，在主窗口左下方的状态栏看见样本均值的结果，从而较为简单地判断序列是否是零均值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8569440" cy="68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1403280" y="4724280"/>
          <a:ext cx="5759640" cy="9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24280"/>
                    <a:ext cx="57596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195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vie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软件的主窗口命令行中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40" y="1915200"/>
            <a:ext cx="91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calar s=@stdev(ww)*@sqrt((1+2*(0.8+0.603+0.436))/@obs(ww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69080" cy="3673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1944000"/>
            <a:ext cx="8600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序列的均值不等于零，则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view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软件的主窗口命令行中输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ries ww1=ww-@mean(w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w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序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series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象名，它是将原序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减去序列均值函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@mean(ww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得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7:35:22Z</dcterms:created>
  <dc:creator>Administrators</dc:creator>
  <dc:description/>
  <dc:language>en-US</dc:language>
  <cp:lastModifiedBy>Administrators</cp:lastModifiedBy>
  <dcterms:modified xsi:type="dcterms:W3CDTF">2008-03-10T15:05:42Z</dcterms:modified>
  <cp:revision>6</cp:revision>
  <dc:subject/>
  <dc:title>幻灯片 1</dc:title>
</cp:coreProperties>
</file>