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7.png" ContentType="image/png"/>
  <Override PartName="/ppt/media/image11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4.wmf" ContentType="image/x-wmf"/>
  <Override PartName="/ppt/media/image23.png" ContentType="image/png"/>
  <Override PartName="/ppt/media/image22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.png" ContentType="image/png"/>
  <Override PartName="/ppt/media/image24.png" ContentType="image/png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A52A-04A3-493D-A1FB-B9D06C7B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2BF2-B1C3-49CC-B0BC-9BC22787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3530-2E15-4CA3-89FA-F5FCD97E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12B5-C5BB-41A9-BC88-8CA1C264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CB6B-C3A6-4BB8-BACA-097350EB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EBA0-94AC-4D00-A16F-7063A377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7129-993F-416F-86C5-F78008EF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BD55-4C49-4976-B5C9-462FE6CF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3682-021A-4AC4-AC95-1CD20D1C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2CB6-0F76-42F4-8EAD-082B9F26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734D-B357-410B-B8CC-08B66109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9F9B-DBFB-43D0-8698-1712A1C7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BF28-F399-4DA7-A947-11A8169B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ED0B-27E5-4A7D-A51F-D47FCFE7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A523-C2A8-4E40-829D-96D931AC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2B1B-906A-4471-8572-46CE9126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65AC-D310-488D-AA3E-4173A76C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5F9D-F496-4048-863C-2150D633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866-3135-4AC4-BF90-3BBFEBAD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F9D9-69F4-4BF2-9E7B-44A21E9F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1DBF-EBC1-4D24-BF12-B7DBF001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A608-9485-4981-9FBF-B32809E9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8200-B9B7-4D79-852B-F3D6381F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23EE-BCAD-4CEF-A165-91CEC3C7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F0EE-9A61-48A5-BE17-EEB01FDD6ED5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70FB-E924-4611-B3B3-ECDEEDF71717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支持向量机及应用简介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李承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水电仿真中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7.4.2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83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线性可分的最优分类模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244520" y="2362320"/>
                <a:ext cx="40179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1573200" y="3133800"/>
            <a:ext cx="27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作广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agrange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乘子函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434960" y="3657600"/>
                <a:ext cx="41450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w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1430640" y="472428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由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KKT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条件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219320" y="1523880"/>
                <a:ext cx="139860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40108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371600" y="1143000"/>
                <a:ext cx="28209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w</m:t>
                        </m:r>
                      </m:den>
                    </m:f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371600" y="2133720"/>
                <a:ext cx="2286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371600" y="3048120"/>
                <a:ext cx="32796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4495680" y="1447920"/>
            <a:ext cx="505080" cy="215640"/>
          </a:xfrm>
          <a:prstGeom prst="rightArrow">
            <a:avLst>
              <a:gd name="adj1" fmla="val 50000"/>
              <a:gd name="adj2" fmla="val 58556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95680" y="2514600"/>
            <a:ext cx="505080" cy="216000"/>
          </a:xfrm>
          <a:prstGeom prst="rightArrow">
            <a:avLst>
              <a:gd name="adj1" fmla="val 50000"/>
              <a:gd name="adj2" fmla="val 58458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410080" y="1143000"/>
          <a:ext cx="167652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143000"/>
                    <a:ext cx="16765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486400" y="2133720"/>
                <a:ext cx="1422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4724280" y="3657600"/>
            <a:ext cx="505080" cy="216000"/>
          </a:xfrm>
          <a:prstGeom prst="rightArrow">
            <a:avLst>
              <a:gd name="adj1" fmla="val 50000"/>
              <a:gd name="adj2" fmla="val 58458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46640" y="346068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非支持向量的系数为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384200" y="4191120"/>
                <a:ext cx="18543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3429000" y="43434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zh-CN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也由支持向量求得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事实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447920" y="5181480"/>
                <a:ext cx="48513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49793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将              代入目标函数，由对偶理论知，系数可由如下二次规划问题解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给定</a:t>
            </a:r>
            <a:r>
              <a:rPr b="0" i="1" lang="zh-CN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的分类结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稳定性、鲁棒性、稀疏性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43000" y="2133720"/>
                <a:ext cx="41450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234" name=""/>
          <p:cNvGraphicFramePr/>
          <p:nvPr/>
        </p:nvGraphicFramePr>
        <p:xfrm>
          <a:off x="990720" y="838080"/>
          <a:ext cx="167616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16761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143000" y="3048120"/>
                <a:ext cx="17524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733920" y="4114800"/>
                <a:ext cx="39193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V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57918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最大间距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由于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600200" y="2743200"/>
                <a:ext cx="6643800" cy="15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V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∈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V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</m:sSubSup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V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/>
                            </m:s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V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/>
                        </m:sSup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V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V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733920" y="1447920"/>
                <a:ext cx="9414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S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1981080" y="1905120"/>
                <a:ext cx="47088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V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38080" y="4724280"/>
                <a:ext cx="206244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∈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V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0784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线性不可分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软间隔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42920" y="1197000"/>
          <a:ext cx="7380360" cy="55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97000"/>
                    <a:ext cx="7380360" cy="55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2162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线性不可分的情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533520" y="1828800"/>
          <a:ext cx="331308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33130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990720" y="3733920"/>
          <a:ext cx="1152360" cy="73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733920"/>
                    <a:ext cx="11523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609480" y="5638680"/>
          <a:ext cx="396108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5638680"/>
                    <a:ext cx="39610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685800" y="289548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引入松弛变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876840" y="1600200"/>
          <a:ext cx="5267160" cy="413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76840" y="1600200"/>
                    <a:ext cx="5267160" cy="41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63587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不可分的解方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066680" y="1143000"/>
          <a:ext cx="58993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3000"/>
                    <a:ext cx="5899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1371600" y="2743200"/>
          <a:ext cx="407844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743200"/>
                    <a:ext cx="40784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838080" y="22096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ject 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79440" y="5432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523880" y="3581280"/>
                <a:ext cx="787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1348920" y="4286160"/>
            <a:ext cx="264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作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Lagrang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函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79440" y="5280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066680" y="5181480"/>
                <a:ext cx="70135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+</m:t>
                    </m:r>
                    <m:r>
                      <m:t xml:space="preserve">C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9320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最优性条件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由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KKT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条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219320" y="2209680"/>
                <a:ext cx="3365280" cy="404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w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4572000" y="2514600"/>
            <a:ext cx="504720" cy="216000"/>
          </a:xfrm>
          <a:prstGeom prst="rightArrow">
            <a:avLst>
              <a:gd name="adj1" fmla="val 50000"/>
              <a:gd name="adj2" fmla="val 5841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562720" y="2133720"/>
                <a:ext cx="1695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4343400" y="4343400"/>
            <a:ext cx="504720" cy="216000"/>
          </a:xfrm>
          <a:prstGeom prst="rightArrow">
            <a:avLst>
              <a:gd name="adj1" fmla="val 50000"/>
              <a:gd name="adj2" fmla="val 5841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562720" y="4191120"/>
                <a:ext cx="134136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5096160" y="51735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486400" y="5257800"/>
                <a:ext cx="31892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75005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系数的解方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719280" y="1371600"/>
          <a:ext cx="8424720" cy="42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" y="1371600"/>
                    <a:ext cx="8424720" cy="42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643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Times New Roman"/>
              </a:rPr>
              <a:t>C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不同带来的影响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22095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08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ffff"/>
                </a:solidFill>
                <a:latin typeface="Arial"/>
              </a:rPr>
              <a:t>机器学习的基本问题和方法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76360" y="4149720"/>
            <a:ext cx="633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从给定的函数集</a:t>
            </a:r>
            <a:r>
              <a:rPr b="0" lang="el-GR" sz="4000" spc="-1" strike="noStrike">
                <a:solidFill>
                  <a:srgbClr val="ffff00"/>
                </a:solidFill>
                <a:latin typeface="宋体"/>
                <a:ea typeface="Arial"/>
              </a:rPr>
              <a:t>Ω</a:t>
            </a: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中选择出能够最好地逼近系统响应的函数</a:t>
            </a:r>
            <a:r>
              <a:rPr b="0" lang="el-GR" sz="4000" spc="-1" strike="noStrike">
                <a:solidFill>
                  <a:srgbClr val="ffff00"/>
                </a:solidFill>
                <a:latin typeface="宋体"/>
              </a:rPr>
              <a:t>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692360" y="1844640"/>
            <a:ext cx="5257080" cy="2014200"/>
            <a:chOff x="1692360" y="1844640"/>
            <a:chExt cx="5257080" cy="2014200"/>
          </a:xfrm>
        </p:grpSpPr>
        <p:sp>
          <p:nvSpPr>
            <p:cNvPr id="162" name=""/>
            <p:cNvSpPr/>
            <p:nvPr/>
          </p:nvSpPr>
          <p:spPr>
            <a:xfrm>
              <a:off x="3165840" y="2076480"/>
              <a:ext cx="2129760" cy="707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66cc"/>
                  </a:solidFill>
                  <a:latin typeface="Tahoma"/>
                </a:rPr>
                <a:t>系统（</a:t>
              </a:r>
              <a:r>
                <a:rPr b="0" lang="zh-CN" sz="1600" spc="-1" strike="noStrike">
                  <a:solidFill>
                    <a:srgbClr val="0066cc"/>
                  </a:solidFill>
                  <a:latin typeface="Tahoma"/>
                </a:rPr>
                <a:t>S</a:t>
              </a:r>
              <a:r>
                <a:rPr b="0" lang="zh-CN" sz="1600" spc="-1" strike="noStrike">
                  <a:solidFill>
                    <a:srgbClr val="0066cc"/>
                  </a:solidFill>
                  <a:latin typeface="Tahoma"/>
                </a:rPr>
                <a:t>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79360" y="3151080"/>
              <a:ext cx="2253960" cy="707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66cc"/>
                  </a:solidFill>
                  <a:latin typeface="Tahoma"/>
                </a:rPr>
                <a:t>学习机器（</a:t>
              </a:r>
              <a:r>
                <a:rPr b="0" lang="zh-CN" sz="1600" spc="-1" strike="noStrike">
                  <a:solidFill>
                    <a:srgbClr val="0066cc"/>
                  </a:solidFill>
                  <a:latin typeface="Tahoma"/>
                </a:rPr>
                <a:t>LM</a:t>
              </a:r>
              <a:r>
                <a:rPr b="0" lang="zh-CN" sz="1600" spc="-1" strike="noStrike">
                  <a:solidFill>
                    <a:srgbClr val="0066cc"/>
                  </a:solidFill>
                  <a:latin typeface="Tahoma"/>
                </a:rPr>
                <a:t>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38600" y="2271600"/>
              <a:ext cx="1226880" cy="2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16040" y="2255760"/>
              <a:ext cx="139752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513880" y="2255400"/>
              <a:ext cx="0" cy="965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13880" y="3222000"/>
              <a:ext cx="409320" cy="2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215680" y="3115080"/>
              <a:ext cx="4654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5681880" y="2255760"/>
              <a:ext cx="2160" cy="858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16040" y="3329640"/>
              <a:ext cx="149112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92360" y="1844640"/>
              <a:ext cx="100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ahoma"/>
                </a:rPr>
                <a:t>输入</a:t>
              </a:r>
              <a:r>
                <a:rPr b="0" lang="zh-CN" sz="16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85640" y="1844640"/>
              <a:ext cx="106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ahoma"/>
                </a:rPr>
                <a:t>输出</a:t>
              </a:r>
              <a:r>
                <a:rPr b="0" lang="zh-CN" sz="1600" spc="-1" strike="noStrike">
                  <a:solidFill>
                    <a:srgbClr val="ffffff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3" name=""/>
            <p:cNvGraphicFramePr/>
            <p:nvPr/>
          </p:nvGraphicFramePr>
          <p:xfrm>
            <a:off x="3742560" y="2381040"/>
            <a:ext cx="816840" cy="440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42560" y="2381040"/>
                      <a:ext cx="816840" cy="44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"/>
            <p:cNvGraphicFramePr/>
            <p:nvPr/>
          </p:nvGraphicFramePr>
          <p:xfrm>
            <a:off x="3276720" y="3454560"/>
            <a:ext cx="1638000" cy="402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76720" y="3454560"/>
                      <a:ext cx="1638000" cy="402480"/>
                    </a:xfrm>
                    <a:prstGeom prst="rect">
                      <a:avLst/>
                    </a:prstGeom>
                    <a:ln w="324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3903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2514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支持向量回归</a:t>
            </a:r>
            <a:r>
              <a:rPr b="0" lang="zh-CN" sz="4400" spc="-1" strike="noStrike">
                <a:solidFill>
                  <a:srgbClr val="ccecff"/>
                </a:solidFill>
                <a:latin typeface="Times New Roman"/>
              </a:rPr>
              <a:t>(Regression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3667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回归问题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线性回归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给定训练集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zh-CN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zh-CN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zh-CN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zh-CN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)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找个线性函数</a:t>
            </a:r>
            <a:r>
              <a:rPr b="0" i="1" lang="zh-CN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zh-CN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)=</a:t>
            </a:r>
            <a:r>
              <a:rPr b="0" i="1" lang="zh-CN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zh-CN" sz="32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zh-CN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zh-CN" sz="3200" spc="-1" strike="noStrike">
                <a:solidFill>
                  <a:srgbClr val="ffffff"/>
                </a:solidFill>
                <a:latin typeface="Times New Roman"/>
              </a:rPr>
              <a:t>b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来拟合数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最小二乘法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Least Squar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其中                      为回归误差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记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则目标函数可写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解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4952880" y="2057400"/>
                <a:ext cx="40197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447920" y="2743200"/>
                <a:ext cx="2136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219320" y="3276720"/>
                <a:ext cx="3078000" cy="19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⋮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495680" y="3886200"/>
                <a:ext cx="3306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X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X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495680" y="4419720"/>
                <a:ext cx="29242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X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460520" y="5486400"/>
                <a:ext cx="2289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56266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最小二乘解的不足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数值稳定性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增加新数据对解都有影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为使模型尽量简单需进行假设检验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脊回归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Ridge Regress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数值稳定性较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还可写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914400" y="2819520"/>
                <a:ext cx="5191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λ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sSup>
                          <m:e>
                            <m:r>
                              <m:t xml:space="preserve">λ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838080" y="4038480"/>
                <a:ext cx="356076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λw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X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5486400" y="4114800"/>
                <a:ext cx="29764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λ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4724280" y="4267080"/>
            <a:ext cx="505080" cy="216000"/>
          </a:xfrm>
          <a:prstGeom prst="rightArrow">
            <a:avLst>
              <a:gd name="adj1" fmla="val 50000"/>
              <a:gd name="adj2" fmla="val 58458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209680" y="5181480"/>
                <a:ext cx="4375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286000" y="5994360"/>
                <a:ext cx="3992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nary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355470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ccecff"/>
                </a:solidFill>
                <a:latin typeface="Arial"/>
                <a:ea typeface="Arial"/>
              </a:rPr>
              <a:t>ε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  <a:ea typeface="Arial"/>
              </a:rPr>
              <a:t>敏感损失回归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Verdana"/>
                <a:ea typeface="Arial"/>
              </a:rPr>
              <a:t>ε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Arial"/>
              </a:rPr>
              <a:t>敏感损失函数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ε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-Insensitive Los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838080" y="5638680"/>
                <a:ext cx="5761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ε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558040" cy="35859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70624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损失函数比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051520" cy="20779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2133720" y="3809880"/>
            <a:ext cx="4798800" cy="206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334120" y="3276720"/>
                <a:ext cx="1217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181480" y="5943600"/>
                <a:ext cx="1319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b>
                        <m:r>
                          <m:t xml:space="preserve">ε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2641680" y="3301920"/>
                <a:ext cx="1420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666880" y="5918040"/>
                <a:ext cx="1319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b>
                        <m:r>
                          <m:t xml:space="preserve">ε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58131" fill="hold"/>
                                        <p:tgtEl>
                                          <p:spTgt spid="3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模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（线性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  <a:ea typeface="Arial"/>
              </a:rPr>
              <a:t>ε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损失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作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Lagrang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乘子函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429000" y="685800"/>
                <a:ext cx="3649680" cy="24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w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C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ξ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ε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ε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33520" y="3809880"/>
                <a:ext cx="80359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ξ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α</m:t>
                            </m:r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ξ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β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ξ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79528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KK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914400" y="5257800"/>
                <a:ext cx="55627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219320" y="1295280"/>
                <a:ext cx="376704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w</m:t>
                        </m:r>
                      </m:den>
                    </m:f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143000" y="2133720"/>
                <a:ext cx="29131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066680" y="2971800"/>
                <a:ext cx="300204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066680" y="3886200"/>
                <a:ext cx="30020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990720" y="4800600"/>
                <a:ext cx="30304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α</m:t>
                        </m:r>
                      </m:e>
                    </m:acc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5181480" y="1600200"/>
            <a:ext cx="505080" cy="216000"/>
          </a:xfrm>
          <a:prstGeom prst="rightArrow">
            <a:avLst>
              <a:gd name="adj1" fmla="val 50000"/>
              <a:gd name="adj2" fmla="val 58458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5867280" y="1295280"/>
                <a:ext cx="24717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4648320" y="4038480"/>
                <a:ext cx="39448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−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α</m:t>
                        </m:r>
                      </m:e>
                    </m:acc>
                    <m:r>
                      <m:t xml:space="preserve">)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5867280" y="2286000"/>
                <a:ext cx="26193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⋅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α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4648320" y="3429000"/>
            <a:ext cx="504720" cy="216000"/>
          </a:xfrm>
          <a:prstGeom prst="rightArrow">
            <a:avLst>
              <a:gd name="adj1" fmla="val 50000"/>
              <a:gd name="adj2" fmla="val 5841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5410080" y="3352680"/>
                <a:ext cx="1793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α</m:t>
                    </m:r>
                    <m:r>
                      <m:t xml:space="preserve">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α</m:t>
                        </m:r>
                      </m:e>
                    </m:acc>
                    <m:r>
                      <m:t xml:space="preserve">≤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240348" fill="hold"/>
                                        <p:tgtEl>
                                          <p:spTgt spid="3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代入模型得系数满足的二次规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变量代换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回归方程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609480" y="1371600"/>
                <a:ext cx="8043840" cy="19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α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r>
                          <m:t xml:space="preserve">ε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α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α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α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α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0,0</m:t>
                        </m:r>
                        <m:r>
                          <m:t xml:space="preserve">≤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752480" y="3657600"/>
                <a:ext cx="5302440" cy="19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r>
                          <m:t xml:space="preserve">ε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514600" y="5638680"/>
                <a:ext cx="403380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nary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25473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用二次</a:t>
            </a:r>
            <a:r>
              <a:rPr b="0" lang="el-GR" sz="3200" spc="-1" strike="noStrike">
                <a:solidFill>
                  <a:srgbClr val="ffffff"/>
                </a:solidFill>
                <a:latin typeface="宋体"/>
              </a:rPr>
              <a:t>ε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损失函数时，模型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141640" y="1219320"/>
                <a:ext cx="3941640" cy="24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w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ξ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ε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ε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85920" y="3809880"/>
                <a:ext cx="83311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w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ξ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α</m:t>
                            </m:r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ξ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β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ξ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18295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KK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914400" y="5257800"/>
                <a:ext cx="55627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1219320" y="1295280"/>
                <a:ext cx="376704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w</m:t>
                        </m:r>
                      </m:den>
                    </m:f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1143000" y="2133720"/>
                <a:ext cx="29131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1143000" y="2971800"/>
                <a:ext cx="32670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219320" y="3886200"/>
                <a:ext cx="32670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990720" y="4800600"/>
                <a:ext cx="30304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α</m:t>
                        </m:r>
                      </m:e>
                    </m:acc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5181480" y="1600200"/>
            <a:ext cx="505080" cy="216000"/>
          </a:xfrm>
          <a:prstGeom prst="rightArrow">
            <a:avLst>
              <a:gd name="adj1" fmla="val 50000"/>
              <a:gd name="adj2" fmla="val 58458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5867280" y="1295280"/>
                <a:ext cx="24717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867280" y="2286000"/>
                <a:ext cx="26193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⋅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α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18295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有指导机器学习的目的是根据给定的训练样本，求出对某系统输入输出之间依赖关系的估计，使它能够对未知输入作出尽可能准确的预测。可以一般地表示为：变量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与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存在一定的未知依赖关系，即遵循某一未知的联合概率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x,y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和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之间的确定性关系可以看作是其特例），有指导机器学习问题就是根据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个独立同分布观测样本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在一组函数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}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中求一个最优的函数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对依赖关系进行估计，使期望风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最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819520" y="3657600"/>
                <a:ext cx="30366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514600" y="4952880"/>
                <a:ext cx="33735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00226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代入模型得系数满足的二次规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变量代换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回归方程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165240" y="1344600"/>
                <a:ext cx="893268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α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r>
                          <m:t xml:space="preserve">ε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α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α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α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δ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C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α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1297080" y="3630600"/>
                <a:ext cx="621504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r>
                          <m:t xml:space="preserve">ε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δ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C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514600" y="5638680"/>
                <a:ext cx="403380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nary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44610" fill="hold"/>
                                        <p:tgtEl>
                                          <p:spTgt spid="3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非线性</a:t>
            </a:r>
            <a:r>
              <a:rPr b="0" lang="zh-CN" sz="4400" spc="-1" strike="noStrike">
                <a:solidFill>
                  <a:srgbClr val="ccecff"/>
                </a:solidFill>
                <a:latin typeface="Times New Roman"/>
              </a:rPr>
              <a:t>SVM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与核</a:t>
            </a:r>
            <a:r>
              <a:rPr b="0" lang="zh-CN" sz="4400" spc="-1" strike="noStrike">
                <a:solidFill>
                  <a:srgbClr val="ccecff"/>
                </a:solidFill>
                <a:latin typeface="Times New Roman"/>
              </a:rPr>
              <a:t>(Kernel)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函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23390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非线性变换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基本思想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选择非线性映射</a:t>
            </a:r>
            <a:r>
              <a:rPr b="0" i="1" lang="el-GR" sz="3200" spc="-1" strike="noStrike">
                <a:solidFill>
                  <a:srgbClr val="ffffff"/>
                </a:solidFill>
                <a:latin typeface="Times New Roman"/>
              </a:rPr>
              <a:t>Φ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zh-CN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将</a:t>
            </a:r>
            <a:r>
              <a:rPr b="0" i="1" lang="zh-CN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映射到高维特征空间</a:t>
            </a:r>
            <a:r>
              <a:rPr b="0" i="1" lang="zh-CN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，在</a:t>
            </a:r>
            <a:r>
              <a:rPr b="0" i="1" lang="zh-CN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中构造最优超平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600200" y="3352680"/>
            <a:ext cx="6064200" cy="24577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31784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对分类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系数可由二次规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对回归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求系数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回归方程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2819520" y="685800"/>
                <a:ext cx="46576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V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φ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066680" y="1981080"/>
                <a:ext cx="49071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143000" y="2819520"/>
                <a:ext cx="17524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668680" y="3657600"/>
                <a:ext cx="6062400" cy="19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r>
                          <m:t xml:space="preserve">ε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φ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514600" y="5638680"/>
                <a:ext cx="477036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94183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这种变换可能比较复杂，因此这种思路在一般情况下不易实现。但是注意到，在上面的对偶问题中，不论是寻优函数还是分类函数都只涉及训练样本之间的内积运算。这样，在高维空间实际上只需进行内积运算，而这种内积运算是可以用原空间中的函数实现的，我们甚至没有必要知道变换的形式。我们看到，通过把原问题转化为对偶问题，计算的复杂度不再取决于空间维数，而是取决于样本数，尤其是样本中的支持向量数。这些特征使有效地对付高维问题成为可能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定义核函数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2666880" y="5181480"/>
                <a:ext cx="26402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00412" fill="hold"/>
                                        <p:tgtEl>
                                          <p:spTgt spid="3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对分类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系数可由二次规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对回归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求系数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回归方程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3137040" y="685800"/>
                <a:ext cx="40226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V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1333440" y="1981080"/>
                <a:ext cx="437220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K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1143000" y="2819520"/>
                <a:ext cx="17524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2971800" y="3581280"/>
                <a:ext cx="5530680" cy="19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r>
                          <m:t xml:space="preserve">ε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2819520" y="5486400"/>
                <a:ext cx="426384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K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45834" fill="hold"/>
                                        <p:tgtEl>
                                          <p:spTgt spid="3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核函数矩阵</a:t>
            </a:r>
            <a:r>
              <a:rPr b="0" i="1" lang="zh-CN" sz="4400" spc="-1" strike="noStrike">
                <a:solidFill>
                  <a:srgbClr val="ccecff"/>
                </a:solidFill>
                <a:latin typeface="Times New Roman"/>
              </a:rPr>
              <a:t>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57200" y="1600200"/>
          <a:ext cx="8229240" cy="4529880"/>
        </p:xfrm>
        <a:graphic>
          <a:graphicData uri="http://schemas.openxmlformats.org/drawingml/2006/table">
            <a:tbl>
              <a:tblPr/>
              <a:tblGrid>
                <a:gridCol w="1644480"/>
                <a:gridCol w="1647720"/>
                <a:gridCol w="1644840"/>
                <a:gridCol w="1647360"/>
                <a:gridCol w="1644840"/>
              </a:tblGrid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…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…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…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…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…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…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…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zh-CN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zh-CN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21524" fill="hold"/>
                                        <p:tgtEl>
                                          <p:spTgt spid="3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277920"/>
            <a:ext cx="82296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核的要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80880" y="121932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Mercer’s theorem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任何半正定的对称函数都可以作为一个核，即对任意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3429000" y="2286000"/>
                <a:ext cx="2184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248520" y="2057400"/>
                <a:ext cx="24382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K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1108800" y="39844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常用的核函数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200400" y="4419720"/>
            <a:ext cx="3213000" cy="213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372280" y="2971800"/>
                <a:ext cx="3403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dxdz</m:t>
                        </m:r>
                      </m:e>
                    </m:nary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5715000" y="2438280"/>
            <a:ext cx="504720" cy="216000"/>
          </a:xfrm>
          <a:prstGeom prst="rightArrow">
            <a:avLst>
              <a:gd name="adj1" fmla="val 50000"/>
              <a:gd name="adj2" fmla="val 5841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083960" y="3062160"/>
            <a:ext cx="36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对任意满足                   的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2133720" y="3048120"/>
                <a:ext cx="1955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dx</m:t>
                        </m:r>
                      </m:e>
                    </m:nary>
                    <m:r>
                      <m:t xml:space="preserve">≤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82259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应用设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已经取得了广泛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支持向量机水库调度函数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入库径流预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负荷预报、电价预测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5257800" y="2590920"/>
                <a:ext cx="2082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" dur="207971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常规调度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"/>
          <p:cNvSpPr/>
          <p:nvPr/>
        </p:nvSpPr>
        <p:spPr>
          <a:xfrm>
            <a:off x="1476360" y="4005360"/>
            <a:ext cx="4896000" cy="1584360"/>
          </a:xfrm>
          <a:custGeom>
            <a:avLst/>
            <a:gdLst/>
            <a:ahLst/>
            <a:rect l="l" t="t" r="r" b="b"/>
            <a:pathLst>
              <a:path w="3084" h="1316">
                <a:moveTo>
                  <a:pt x="0" y="1316"/>
                </a:moveTo>
                <a:cubicBezTo>
                  <a:pt x="75" y="1032"/>
                  <a:pt x="151" y="749"/>
                  <a:pt x="317" y="545"/>
                </a:cubicBezTo>
                <a:cubicBezTo>
                  <a:pt x="483" y="341"/>
                  <a:pt x="732" y="167"/>
                  <a:pt x="997" y="91"/>
                </a:cubicBezTo>
                <a:cubicBezTo>
                  <a:pt x="1262" y="15"/>
                  <a:pt x="1648" y="0"/>
                  <a:pt x="1905" y="91"/>
                </a:cubicBezTo>
                <a:cubicBezTo>
                  <a:pt x="2162" y="182"/>
                  <a:pt x="2344" y="431"/>
                  <a:pt x="2540" y="635"/>
                </a:cubicBezTo>
                <a:cubicBezTo>
                  <a:pt x="2736" y="839"/>
                  <a:pt x="2993" y="1210"/>
                  <a:pt x="3084" y="1316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187280" y="2637000"/>
            <a:ext cx="2160720" cy="2087280"/>
          </a:xfrm>
          <a:custGeom>
            <a:avLst/>
            <a:gdLst/>
            <a:ahLst/>
            <a:rect l="l" t="t" r="r" b="b"/>
            <a:pathLst>
              <a:path w="1361" h="1315">
                <a:moveTo>
                  <a:pt x="0" y="1315"/>
                </a:moveTo>
                <a:cubicBezTo>
                  <a:pt x="56" y="1069"/>
                  <a:pt x="113" y="824"/>
                  <a:pt x="272" y="635"/>
                </a:cubicBezTo>
                <a:cubicBezTo>
                  <a:pt x="431" y="446"/>
                  <a:pt x="772" y="287"/>
                  <a:pt x="953" y="181"/>
                </a:cubicBezTo>
                <a:cubicBezTo>
                  <a:pt x="1134" y="75"/>
                  <a:pt x="1247" y="37"/>
                  <a:pt x="1361" y="0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00720" y="2637000"/>
            <a:ext cx="1871640" cy="2952720"/>
          </a:xfrm>
          <a:custGeom>
            <a:avLst/>
            <a:gdLst/>
            <a:ahLst/>
            <a:rect l="l" t="t" r="r" b="b"/>
            <a:pathLst>
              <a:path w="1179" h="1860">
                <a:moveTo>
                  <a:pt x="0" y="0"/>
                </a:moveTo>
                <a:cubicBezTo>
                  <a:pt x="196" y="53"/>
                  <a:pt x="393" y="106"/>
                  <a:pt x="544" y="227"/>
                </a:cubicBezTo>
                <a:cubicBezTo>
                  <a:pt x="695" y="348"/>
                  <a:pt x="801" y="454"/>
                  <a:pt x="907" y="726"/>
                </a:cubicBezTo>
                <a:cubicBezTo>
                  <a:pt x="1013" y="998"/>
                  <a:pt x="1096" y="1429"/>
                  <a:pt x="1179" y="1860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87640" y="335772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保证出力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111480" y="465300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降低出力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1619280" y="2637000"/>
            <a:ext cx="720720" cy="504720"/>
            <a:chOff x="1619280" y="2637000"/>
            <a:chExt cx="720720" cy="504720"/>
          </a:xfrm>
        </p:grpSpPr>
        <p:sp>
          <p:nvSpPr>
            <p:cNvPr id="416" name=""/>
            <p:cNvSpPr/>
            <p:nvPr/>
          </p:nvSpPr>
          <p:spPr>
            <a:xfrm>
              <a:off x="1619280" y="2637000"/>
              <a:ext cx="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19280" y="3141720"/>
              <a:ext cx="72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2340000" y="2637000"/>
              <a:ext cx="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701000" y="26416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防洪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736920" y="2133720"/>
            <a:ext cx="6859440" cy="3915720"/>
            <a:chOff x="736920" y="2133720"/>
            <a:chExt cx="6859440" cy="3915720"/>
          </a:xfrm>
        </p:grpSpPr>
        <p:grpSp>
          <p:nvGrpSpPr>
            <p:cNvPr id="421" name=""/>
            <p:cNvGrpSpPr/>
            <p:nvPr/>
          </p:nvGrpSpPr>
          <p:grpSpPr>
            <a:xfrm>
              <a:off x="736920" y="2133720"/>
              <a:ext cx="6859440" cy="3915720"/>
              <a:chOff x="736920" y="2133720"/>
              <a:chExt cx="6859440" cy="3915720"/>
            </a:xfrm>
          </p:grpSpPr>
          <p:sp>
            <p:nvSpPr>
              <p:cNvPr id="422" name=""/>
              <p:cNvSpPr/>
              <p:nvPr/>
            </p:nvSpPr>
            <p:spPr>
              <a:xfrm>
                <a:off x="1187280" y="5589720"/>
                <a:ext cx="640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1187280" y="2133720"/>
                <a:ext cx="0" cy="345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187280" y="2637000"/>
                <a:ext cx="5185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372360" y="2637000"/>
                <a:ext cx="0" cy="2952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6920" y="236844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093080" y="558972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1476360" y="5445000"/>
              <a:ext cx="0" cy="14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08000" y="5445000"/>
              <a:ext cx="0" cy="14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340000" y="5445000"/>
              <a:ext cx="0" cy="14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771640" y="5445000"/>
              <a:ext cx="0" cy="14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80000" y="5445000"/>
              <a:ext cx="0" cy="14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76720" y="5445000"/>
              <a:ext cx="0" cy="14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11640" y="5445000"/>
              <a:ext cx="0" cy="14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16360" y="5445000"/>
              <a:ext cx="0" cy="14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48360" y="5445000"/>
              <a:ext cx="0" cy="14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80000" y="5445000"/>
              <a:ext cx="0" cy="14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12000" y="5445000"/>
              <a:ext cx="0" cy="14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692000" y="3357360"/>
            <a:ext cx="6552000" cy="818640"/>
            <a:chOff x="1692000" y="3357360"/>
            <a:chExt cx="6552000" cy="818640"/>
          </a:xfrm>
        </p:grpSpPr>
        <p:sp>
          <p:nvSpPr>
            <p:cNvPr id="440" name=""/>
            <p:cNvSpPr/>
            <p:nvPr/>
          </p:nvSpPr>
          <p:spPr>
            <a:xfrm>
              <a:off x="6496200" y="3716280"/>
              <a:ext cx="174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加大出力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1692000" y="3357360"/>
              <a:ext cx="4824360" cy="64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5940000" y="3429000"/>
              <a:ext cx="57636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1187280" y="2421000"/>
            <a:ext cx="6802200" cy="1871640"/>
            <a:chOff x="1187280" y="2421000"/>
            <a:chExt cx="6802200" cy="1871640"/>
          </a:xfrm>
        </p:grpSpPr>
        <p:sp>
          <p:nvSpPr>
            <p:cNvPr id="444" name=""/>
            <p:cNvSpPr/>
            <p:nvPr/>
          </p:nvSpPr>
          <p:spPr>
            <a:xfrm>
              <a:off x="5651640" y="2637000"/>
              <a:ext cx="720720" cy="1655640"/>
            </a:xfrm>
            <a:custGeom>
              <a:avLst/>
              <a:gdLst/>
              <a:ahLst/>
              <a:rect l="l" t="t" r="r" b="b"/>
              <a:pathLst>
                <a:path w="454" h="1043">
                  <a:moveTo>
                    <a:pt x="0" y="0"/>
                  </a:moveTo>
                  <a:cubicBezTo>
                    <a:pt x="98" y="49"/>
                    <a:pt x="197" y="98"/>
                    <a:pt x="273" y="272"/>
                  </a:cubicBezTo>
                  <a:cubicBezTo>
                    <a:pt x="349" y="446"/>
                    <a:pt x="401" y="744"/>
                    <a:pt x="454" y="104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187280" y="3141720"/>
              <a:ext cx="432000" cy="647640"/>
            </a:xfrm>
            <a:custGeom>
              <a:avLst/>
              <a:gdLst/>
              <a:ahLst/>
              <a:rect l="l" t="t" r="r" b="b"/>
              <a:pathLst>
                <a:path w="272" h="408">
                  <a:moveTo>
                    <a:pt x="0" y="408"/>
                  </a:moveTo>
                  <a:cubicBezTo>
                    <a:pt x="0" y="408"/>
                    <a:pt x="136" y="204"/>
                    <a:pt x="27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40000" y="2637000"/>
              <a:ext cx="431640" cy="144360"/>
            </a:xfrm>
            <a:custGeom>
              <a:avLst/>
              <a:gdLst/>
              <a:ahLst/>
              <a:rect l="l" t="t" r="r" b="b"/>
              <a:pathLst>
                <a:path w="272" h="181">
                  <a:moveTo>
                    <a:pt x="0" y="181"/>
                  </a:moveTo>
                  <a:cubicBezTo>
                    <a:pt x="0" y="181"/>
                    <a:pt x="136" y="90"/>
                    <a:pt x="27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94360" y="24210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预想出力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300360" y="2781360"/>
              <a:ext cx="35892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1331640" y="2637000"/>
              <a:ext cx="532764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618920" y="3644640"/>
            <a:ext cx="1440360" cy="721080"/>
            <a:chOff x="1618920" y="3644640"/>
            <a:chExt cx="1440360" cy="721080"/>
          </a:xfrm>
        </p:grpSpPr>
        <p:sp>
          <p:nvSpPr>
            <p:cNvPr id="451" name=""/>
            <p:cNvSpPr/>
            <p:nvPr/>
          </p:nvSpPr>
          <p:spPr>
            <a:xfrm>
              <a:off x="1671480" y="3665520"/>
              <a:ext cx="138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基本调度线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268360" y="4076640"/>
              <a:ext cx="71640" cy="289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 flipV="1">
              <a:off x="1618920" y="3644640"/>
              <a:ext cx="14436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264188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支持向量机</a:t>
            </a:r>
            <a:r>
              <a:rPr b="0" lang="zh-CN" sz="4400" spc="-1" strike="noStrike">
                <a:solidFill>
                  <a:srgbClr val="ccecff"/>
                </a:solidFill>
                <a:latin typeface="Times New Roman"/>
              </a:rPr>
              <a:t>（</a:t>
            </a:r>
            <a:r>
              <a:rPr b="0" lang="zh-CN" sz="4400" spc="-1" strike="noStrike">
                <a:solidFill>
                  <a:srgbClr val="ccecff"/>
                </a:solidFill>
                <a:latin typeface="Times New Roman"/>
              </a:rPr>
              <a:t>SVM</a:t>
            </a:r>
            <a:r>
              <a:rPr b="0" lang="zh-CN" sz="4400" spc="-1" strike="noStrike">
                <a:solidFill>
                  <a:srgbClr val="ccec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支持向量机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Surpport Vector Machines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简称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VM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，是统计学习理论中最年轻的内容，也是最实用的部分。其核心内容是在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995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年左右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由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apnik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hervonenkis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提出的，目前仍处在不断发展阶段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05830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895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支持向量分类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(Classification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6590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线性分类器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763640" y="3173400"/>
          <a:ext cx="6264360" cy="28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3173400"/>
                    <a:ext cx="626436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2340000" y="1628640"/>
          <a:ext cx="4103640" cy="9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1628640"/>
                    <a:ext cx="410364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185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分类面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点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到平面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&lt;w,x&gt;+b=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的距离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5229360" cy="533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33520" y="3282840"/>
                <a:ext cx="20304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</m:num>
                      <m:den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w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2412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最优分类面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362240" y="1698480"/>
            <a:ext cx="6418080" cy="43340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95994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最大间隔</a:t>
            </a:r>
            <a:r>
              <a:rPr b="0" lang="zh-CN" sz="4400" spc="-1" strike="noStrike">
                <a:solidFill>
                  <a:srgbClr val="ccecff"/>
                </a:solidFill>
                <a:latin typeface="Times New Roman"/>
              </a:rPr>
              <a:t>(margin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分类面方程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支撑面之间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距离叫做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间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426360" y="2471760"/>
          <a:ext cx="48240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6360" y="2471760"/>
                    <a:ext cx="4824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124080" y="1905120"/>
            <a:ext cx="5558040" cy="376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838080" y="2286000"/>
                <a:ext cx="147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168560" y="4622760"/>
                <a:ext cx="1118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w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9906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lkinnet</cp:lastModifiedBy>
  <dcterms:modified xsi:type="dcterms:W3CDTF">2007-06-12T00:40:3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