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41A-F95C-4A5E-8320-F23C27D7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43B-9B65-4595-84D6-EED9B51A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9F2-9810-4A54-A330-6235862B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ACA-8363-4798-A5E7-D1437DA1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54F-3068-4EF5-992D-D0D82405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E03F-E653-40A8-A7D1-D15A01EE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2809-2CD9-42B8-94E4-CBB4E656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291E-3F61-4483-B0C7-07C2123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CBC9-E84D-44FE-89B2-9E6B95AD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AF03-0CBE-4DD7-90FE-1134C85C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A8D7-AD4C-4358-82B4-864272D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D73-F7E5-44A1-8919-32166EF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A837-BF68-4A1F-801D-ECBE4C5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94D9-76FB-4439-87DF-C9D077A7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AD9F-EE7E-4F02-BB7E-6D52B83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535E-37E3-4D5C-9A73-A3BF6F94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EA82-DF76-4C07-92F4-E139C45C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1C4-4864-421D-A2DA-92FA82B0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EF9-D806-498D-A284-D2496F32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A56-8137-41BE-A71D-72925150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8EC-4155-41E6-ACB5-88DF0A14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AD3-56D5-47F4-AD38-030E6C3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FC1-0748-46FA-8115-A366FF1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791-E185-41A6-A74F-13B3AE6F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BD45-C55A-45A2-92E5-519297CD145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599F-6B51-4E2C-871E-626B3EBEE64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序列窗口下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View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菜单四个组成部分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一部分：提供序列数据的观测法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preadsheet/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二部分：</a:t>
            </a:r>
            <a:r>
              <a:rPr b="0" lang="zh-CN" sz="3000" spc="-1" strike="noStrike">
                <a:solidFill>
                  <a:srgbClr val="669999"/>
                </a:solidFill>
                <a:latin typeface="Arial"/>
              </a:rPr>
              <a:t>描述性统计分析</a:t>
            </a:r>
            <a:r>
              <a:rPr b="0" lang="zh-CN" sz="3000" spc="-1" strike="noStrike">
                <a:solidFill>
                  <a:srgbClr val="669999"/>
                </a:solidFill>
                <a:latin typeface="Arial"/>
              </a:rPr>
              <a:t>/</a:t>
            </a:r>
            <a:r>
              <a:rPr b="0" lang="zh-CN" sz="3000" spc="-1" strike="noStrike">
                <a:solidFill>
                  <a:srgbClr val="669999"/>
                </a:solidFill>
                <a:latin typeface="Arial"/>
              </a:rPr>
              <a:t>描述性统计检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布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三部分：相关图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orrelogram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、单位根检验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Unit root tes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四部分：性质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和标签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分组描述性统计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-Descriptive Statistics-stats by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81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分组描述性统计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描述性统计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描述性统计检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ests for Descriptive St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简单假设检验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Simple Hypothesis Te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分组齐性检验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Equality Tests by Class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简单假设检验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Simple Hypothesis Test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[Tests for Descriptive Stats]=&gt;[Simple Hypothesis Tests] </a:t>
            </a:r>
            <a:r>
              <a:rPr b="0" lang="zh-CN" sz="3000" spc="-1" strike="noStrike">
                <a:solidFill>
                  <a:srgbClr val="000000"/>
                </a:solidFill>
                <a:latin typeface=".."/>
              </a:rPr>
              <a:t>：简单的序列分布假设检验——单样本检验，检验均值、方差或中位数是否与给定的值存在显著性差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简单假设检验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Simple Hypothesis Test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an=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值（零假设为均值等于该指定值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=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值（零假设为方差等于该指定值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dian=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值（零假设为中位数等于该指定值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2666880"/>
          <a:ext cx="4691160" cy="34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666880"/>
                    <a:ext cx="469116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简单假设检验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Simple Hypothesis Test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包括对序列的均值检验、方差检验和中位数检验，零假设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8991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用某仪器间接测量某容器内的温度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数据为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5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6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4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6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7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已知该容器实际温度为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7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试检验该仪器间接测量的温度值有无系统偏差（显著性水平取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单总体均值的假设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单总体均值的假设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差未知，样本容量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=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样本均值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59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样本标准差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假设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单总体均值的假设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800" y="1320840"/>
            <a:ext cx="7238880" cy="4557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楷体_GB2312"/>
              </a:rPr>
              <a:t>单总体均值的假设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7800" y="188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㈠序列的图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87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工作表中双击序列名称，出现序列对象窗口，在序列对象窗口的工具栏上点击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iew/Graph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钮，这样一来为该序列绘图做好了前期准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24000" y="1989000"/>
            <a:ext cx="7235640" cy="4869000"/>
            <a:chOff x="324000" y="1989000"/>
            <a:chExt cx="7235640" cy="4869000"/>
          </a:xfrm>
        </p:grpSpPr>
        <p:sp>
          <p:nvSpPr>
            <p:cNvPr id="153" name=""/>
            <p:cNvSpPr/>
            <p:nvPr/>
          </p:nvSpPr>
          <p:spPr>
            <a:xfrm>
              <a:off x="2682720" y="6465960"/>
              <a:ext cx="3005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7.8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序列绘图窗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324000" y="1989000"/>
              <a:ext cx="7235640" cy="450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单总体方差的假设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例：某车间生产钢丝，现从产品中随机抽取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根，测得折断力数据如下表。已知折断力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从正态分布，问折断力方差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否可信（显著性水平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单总体方差的假设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81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单总体方差的假设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9480" y="1187280"/>
            <a:ext cx="792504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单总体方差的假设检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433520"/>
            <a:ext cx="73152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总体方差的假设检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1260360"/>
            <a:ext cx="7772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0066"/>
                </a:solidFill>
                <a:latin typeface="Arial"/>
              </a:rPr>
              <a:t>分组齐性检验</a:t>
            </a:r>
            <a:r>
              <a:rPr b="1" lang="zh-CN" sz="2600" spc="-1" strike="noStrike">
                <a:solidFill>
                  <a:srgbClr val="330066"/>
                </a:solidFill>
                <a:latin typeface="Arial"/>
              </a:rPr>
              <a:t>Equality Tests by Classification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Tests for Descriptive Stats]=&gt;[Equality Tests by Classification]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通过分组检验不同组之间均值、中位数或。方差是否相等——多样本检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组齐性检验也包括均值检验、方差检验和中位数检验。主要利用方差分析方法得到各组数据的组内差异和组间差异，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Views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时给出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计量及相伴概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分组描述性统计过程类似，用户需要在对话框中指定分组变量、检验类型和相关参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0066"/>
                </a:solidFill>
                <a:latin typeface="Arial"/>
              </a:rPr>
              <a:t>分组齐性检验</a:t>
            </a:r>
            <a:r>
              <a:rPr b="1" lang="zh-CN" sz="2200" spc="-1" strike="noStrike">
                <a:solidFill>
                  <a:srgbClr val="330066"/>
                </a:solidFill>
                <a:latin typeface="Arial"/>
              </a:rPr>
              <a:t>Equality Tests by Classification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838080" y="1095480"/>
            <a:ext cx="73152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0066"/>
                </a:solidFill>
                <a:latin typeface="Arial"/>
              </a:rPr>
              <a:t>分组齐性检验</a:t>
            </a:r>
            <a:r>
              <a:rPr b="1" lang="zh-CN" sz="2200" spc="-1" strike="noStrike">
                <a:solidFill>
                  <a:srgbClr val="330066"/>
                </a:solidFill>
                <a:latin typeface="Arial"/>
              </a:rPr>
              <a:t>Equality Tests by Classification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19320" y="1149480"/>
            <a:ext cx="662940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0066"/>
                </a:solidFill>
                <a:latin typeface="Arial"/>
              </a:rPr>
              <a:t>分组齐性检验</a:t>
            </a:r>
            <a:r>
              <a:rPr b="1" lang="zh-CN" sz="2200" spc="-1" strike="noStrike">
                <a:solidFill>
                  <a:srgbClr val="330066"/>
                </a:solidFill>
                <a:latin typeface="Arial"/>
              </a:rPr>
              <a:t>Equality Tests by Classification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76400" y="1152360"/>
            <a:ext cx="47386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.."/>
              </a:rPr>
              <a:t>序列组窗口下的描述性统计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组对象窗口工具栏中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ew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钮下拉菜单包括四个部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格、图形等多种观察序列数据的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基本统计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用于时间序列分析的一些统计量和检验过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bel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把组对象的详细信息加到标签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6728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vie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了许多快速工具。当直接点击主菜单中的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uick/Graph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以为目标对象绘制折线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Line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条形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Bar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散点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catter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图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9640" y="1773360"/>
            <a:ext cx="7488360" cy="4159080"/>
            <a:chOff x="539640" y="1773360"/>
            <a:chExt cx="7488360" cy="41590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39640" y="1773360"/>
              <a:ext cx="7488360" cy="38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76360" y="5734080"/>
              <a:ext cx="4824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7.9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主菜单上的快速绘图工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.."/>
              </a:rPr>
              <a:t>序列组窗口下的描述性统计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描述统计分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齐性检验与方差分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第一章组对象例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相关分析与协方差分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相关图、葛兰杰因果检验、协整检验（时间序列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.."/>
              </a:rPr>
              <a:t>描述统计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708660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Common sample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  <a:ea typeface="楷体_GB2312"/>
              </a:rPr>
              <a:t> &amp; 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Individual sampl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通样本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mmon sample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算法：只利用各序列均无缺失值的时间点的样本值进行计算，称为个案删除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sewise deletion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体样本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ividual sample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算法：分别利用各序列所有非缺失观测值计算各统计量，这种样本取值法称为列删除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wise deletion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Common sample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330066"/>
                </a:solidFill>
                <a:latin typeface="Arial"/>
              </a:rPr>
              <a:t>Individual sampl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08240" cy="4191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.."/>
              </a:rPr>
              <a:t>Group-discrit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Common sample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Individual s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3338280" cy="3505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316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楷体_GB2312"/>
              </a:rPr>
              <a:t>相关分析与协方差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分析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rrelation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给出各序列的相关系数矩阵。其绝对值越接近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个序列相关性越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方差分析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variance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结果是一个协方差矩阵。主对角线上分别是各序列的样本方差，其他元素则是对应两个序列的协方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68360" y="49536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序列对象窗口的工具栏上点击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iew/ Correlogram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钮，此时出现相关分析的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26920" y="1916280"/>
            <a:ext cx="6913800" cy="4176720"/>
            <a:chOff x="826920" y="1916280"/>
            <a:chExt cx="6913800" cy="41767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691380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933560" y="5664240"/>
              <a:ext cx="479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7.11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相关分析的对话窗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217404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项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vel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对当前序列绘制相关分析图；”选项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st difference”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对当前序列的一阶差分序列绘制相关分析图；选项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nd difference”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对当前序列的二阶差分序列绘制相关分析图；选项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ags to include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的对话框是让用户选择样本自相关函数的最大滞后期，默认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选择好各个选项后，点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钮，将在序列显示窗口显示相应的相关分析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468360" y="765000"/>
            <a:ext cx="7596000" cy="5156280"/>
            <a:chOff x="468360" y="765000"/>
            <a:chExt cx="7596000" cy="5156280"/>
          </a:xfrm>
        </p:grpSpPr>
        <p:sp>
          <p:nvSpPr>
            <p:cNvPr id="259" name=""/>
            <p:cNvSpPr/>
            <p:nvPr/>
          </p:nvSpPr>
          <p:spPr>
            <a:xfrm>
              <a:off x="1260000" y="5518080"/>
              <a:ext cx="4116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图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7.12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某相关序列的相关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rcRect l="0" t="0" r="0" b="10142"/>
            <a:stretch/>
          </p:blipFill>
          <p:spPr>
            <a:xfrm>
              <a:off x="468360" y="765000"/>
              <a:ext cx="7596000" cy="471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楷体_GB2312"/>
              </a:rPr>
              <a:t>相关分析与协方差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序列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S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表示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至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9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北京居民人均生活消费支出和可支配收入，现进行相关和协方差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419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（２）序列窗口下的描述性统计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描述性统计分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esciptive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柱图和统计量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istogram &amp; St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分组统计量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tats by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描述性统计检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ests for Descriptive St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简单假设检验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Simple Hypothesis Te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分组齐性检验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Equality Tests by Class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楷体_GB2312"/>
              </a:rPr>
              <a:t>相关分析与协方差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16254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60962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描述性统计分析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Desciptive Statist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柱图和统计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istogram &amp; St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组统计量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tats by Class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描述性统计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测得某医院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新生儿体重（单位：克），数据如下，利用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Views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描述性统计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820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1781280"/>
            <a:ext cx="6858000" cy="4881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描述性统计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ew-Descriptive Statistics-Histogram and St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描述性统计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5634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S=0.37&gt;0, K=2.43&lt;3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与标准正态分布相比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S=0,K=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，右偏，平峰，且比较接近正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332000" y="3573360"/>
            <a:ext cx="5327640" cy="930240"/>
            <a:chOff x="1332000" y="3573360"/>
            <a:chExt cx="5327640" cy="930240"/>
          </a:xfrm>
        </p:grpSpPr>
        <p:sp>
          <p:nvSpPr>
            <p:cNvPr id="172" name=""/>
            <p:cNvSpPr/>
            <p:nvPr/>
          </p:nvSpPr>
          <p:spPr>
            <a:xfrm>
              <a:off x="1332000" y="364536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偏度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3635280" y="3573360"/>
            <a:ext cx="3024360" cy="93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35280" y="3573360"/>
                      <a:ext cx="302436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5" name=""/>
          <p:cNvGrpSpPr/>
          <p:nvPr/>
        </p:nvGrpSpPr>
        <p:grpSpPr>
          <a:xfrm>
            <a:off x="2005560" y="4653000"/>
            <a:ext cx="4509360" cy="647640"/>
            <a:chOff x="2005560" y="4653000"/>
            <a:chExt cx="4509360" cy="647640"/>
          </a:xfrm>
        </p:grpSpPr>
        <p:sp>
          <p:nvSpPr>
            <p:cNvPr id="176" name=""/>
            <p:cNvSpPr/>
            <p:nvPr/>
          </p:nvSpPr>
          <p:spPr>
            <a:xfrm>
              <a:off x="2005560" y="47232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峰度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3995640" y="4653000"/>
            <a:ext cx="251928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5640" y="4653000"/>
                      <a:ext cx="251928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9" name=""/>
          <p:cNvGrpSpPr/>
          <p:nvPr/>
        </p:nvGrpSpPr>
        <p:grpSpPr>
          <a:xfrm>
            <a:off x="1674360" y="2421000"/>
            <a:ext cx="5129640" cy="846000"/>
            <a:chOff x="1674360" y="2421000"/>
            <a:chExt cx="5129640" cy="846000"/>
          </a:xfrm>
        </p:grpSpPr>
        <p:sp>
          <p:nvSpPr>
            <p:cNvPr id="180" name=""/>
            <p:cNvSpPr/>
            <p:nvPr/>
          </p:nvSpPr>
          <p:spPr>
            <a:xfrm>
              <a:off x="1674360" y="2689560"/>
              <a:ext cx="16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样本标准差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3851280" y="2421000"/>
            <a:ext cx="2952720" cy="84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51280" y="2421000"/>
                      <a:ext cx="295272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3" name=""/>
          <p:cNvGrpSpPr/>
          <p:nvPr/>
        </p:nvGrpSpPr>
        <p:grpSpPr>
          <a:xfrm>
            <a:off x="1694880" y="1413000"/>
            <a:ext cx="4748760" cy="720720"/>
            <a:chOff x="1694880" y="1413000"/>
            <a:chExt cx="4748760" cy="720720"/>
          </a:xfrm>
        </p:grpSpPr>
        <p:sp>
          <p:nvSpPr>
            <p:cNvPr id="184" name=""/>
            <p:cNvSpPr/>
            <p:nvPr/>
          </p:nvSpPr>
          <p:spPr>
            <a:xfrm>
              <a:off x="1694880" y="1465920"/>
              <a:ext cx="13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样本均值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4211640" y="1413000"/>
            <a:ext cx="2232000" cy="72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11640" y="1413000"/>
                      <a:ext cx="223200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描述性统计分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2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arque-Bera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雅克贝拉）检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检验的零假设：样本服从正态分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检验统计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00000" y="3357720"/>
          <a:ext cx="44974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357720"/>
                    <a:ext cx="44974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4365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样本偏度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样本峰度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估计参数的个数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样本容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7:08:51Z</dcterms:created>
  <dc:creator>xiamg</dc:creator>
  <dc:description/>
  <dc:language>en-US</dc:language>
  <cp:lastModifiedBy>Administrators</cp:lastModifiedBy>
  <dcterms:modified xsi:type="dcterms:W3CDTF">2008-02-28T06:40:11Z</dcterms:modified>
  <cp:revision>48</cp:revision>
  <dc:subject/>
  <dc:title>没有幻灯片标题</dc:title>
</cp:coreProperties>
</file>