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89C-1883-4A7B-9717-986F5CE2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E4F-62A7-49A9-AA5E-48119873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F39-24B4-4E77-80B3-96693D95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AE0-11C3-42FF-B00C-359F613D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82B-0442-4246-BBE8-943E5A7F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E76-D23E-4500-97BC-BDB4B930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5AA-7CF0-4E90-AE75-B64C8D1B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A55-9527-4AA2-83A6-6C6B3203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F1B-3A16-42AD-8B6D-7FA2F931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1E6-068E-4E2E-AAA0-1039825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02C-7F74-4C6D-A184-D1F12564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2A2-6119-4FAD-AE01-3673CCC7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A1D2-A7BC-47BA-B8E9-0B676AC830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hyperlink" Target="file:///&#32479;&#35745;&#23398;.ppt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slide" Target="slide7.xml"/><Relationship Id="rId26" Type="http://schemas.openxmlformats.org/officeDocument/2006/relationships/image" Target="../media/image1.jpeg"/><Relationship Id="rId27" Type="http://schemas.openxmlformats.org/officeDocument/2006/relationships/slide" Target="slide7.xml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5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" Target="slide19.xml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slide" Target="slide19.xml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4211640" y="2924280"/>
            <a:ext cx="663480" cy="668160"/>
          </a:xfrm>
          <a:custGeom>
            <a:avLst/>
            <a:gdLst>
              <a:gd name="textAreaLeft" fmla="*/ 32400 w 663480"/>
              <a:gd name="textAreaRight" fmla="*/ 631080 w 663480"/>
              <a:gd name="textAreaTop" fmla="*/ 32400 h 668160"/>
              <a:gd name="textAreaBottom" fmla="*/ 635760 h 668160"/>
            </a:gdLst>
            <a:ahLst/>
            <a:rect l="textAreaLeft" t="textAreaTop" r="textAreaRight" b="textAreaBottom"/>
            <a:pathLst>
              <a:path w="21600" h="21752">
                <a:moveTo>
                  <a:pt x="3600" y="0"/>
                </a:moveTo>
                <a:arcTo wR="3600" hR="3600" stAng="16200000" swAng="-5400000"/>
                <a:lnTo>
                  <a:pt x="0" y="18152"/>
                </a:lnTo>
                <a:arcTo wR="3600" hR="3600" stAng="10800000" swAng="-5400000"/>
                <a:lnTo>
                  <a:pt x="18000" y="21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卡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4"/>
          </p:cNvPr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5013360"/>
            <a:ext cx="1584000" cy="288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作卡方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56000" y="620640"/>
            <a:ext cx="24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自由度用以衡量列联表的大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73320" y="1533600"/>
          <a:ext cx="3429000" cy="213336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132000" y="1197000"/>
            <a:ext cx="10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3×4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076640"/>
            <a:ext cx="103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×6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588000" y="227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自由度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516720" y="501336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自由度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5" name=""/>
          <p:cNvGraphicFramePr/>
          <p:nvPr/>
        </p:nvGraphicFramePr>
        <p:xfrm>
          <a:off x="2173320" y="1533600"/>
          <a:ext cx="3429000" cy="213336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619280" y="4365720"/>
          <a:ext cx="4572000" cy="1739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67" name="">
            <a:hlinkClick r:id="rId25" action="ppaction://hlinksldjump"/>
          </p:cNvPr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27" action="ppaction://hlinksldjump"/>
          </p:cNvPr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908000" y="1916280"/>
          <a:ext cx="5256360" cy="312876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792000"/>
                <a:gridCol w="863640"/>
                <a:gridCol w="1008000"/>
                <a:gridCol w="15843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580000" y="1916280"/>
                <a:ext cx="1621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72000" y="1987560"/>
                <a:ext cx="1008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708360" y="1987560"/>
                <a:ext cx="868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16360" y="1987560"/>
                <a:ext cx="645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484360" y="196992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52720" y="1987560"/>
                <a:ext cx="258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844720" y="4653000"/>
                <a:ext cx="2793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313240" y="5327640"/>
            <a:ext cx="1933560" cy="55080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95880" y="5191200"/>
            <a:ext cx="2117880" cy="619200"/>
          </a:xfrm>
          <a:custGeom>
            <a:avLst/>
            <a:gdLst/>
            <a:ahLst/>
            <a:rect l="l" t="t" r="r" b="b"/>
            <a:pathLst>
              <a:path w="1525" h="432">
                <a:moveTo>
                  <a:pt x="1477" y="432"/>
                </a:moveTo>
                <a:cubicBezTo>
                  <a:pt x="1370" y="415"/>
                  <a:pt x="1067" y="385"/>
                  <a:pt x="835" y="329"/>
                </a:cubicBezTo>
                <a:cubicBezTo>
                  <a:pt x="603" y="273"/>
                  <a:pt x="170" y="143"/>
                  <a:pt x="85" y="96"/>
                </a:cubicBezTo>
                <a:cubicBezTo>
                  <a:pt x="0" y="49"/>
                  <a:pt x="86" y="61"/>
                  <a:pt x="326" y="45"/>
                </a:cubicBezTo>
                <a:cubicBezTo>
                  <a:pt x="566" y="29"/>
                  <a:pt x="1275" y="9"/>
                  <a:pt x="1525" y="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6120" y="3067200"/>
            <a:ext cx="5800680" cy="2801880"/>
          </a:xfrm>
          <a:custGeom>
            <a:avLst/>
            <a:gdLst/>
            <a:ahLst/>
            <a:rect l="l" t="t" r="r" b="b"/>
            <a:pathLst>
              <a:path w="3227" h="2279">
                <a:moveTo>
                  <a:pt x="0" y="2279"/>
                </a:moveTo>
                <a:cubicBezTo>
                  <a:pt x="57" y="1929"/>
                  <a:pt x="120" y="356"/>
                  <a:pt x="340" y="178"/>
                </a:cubicBezTo>
                <a:cubicBezTo>
                  <a:pt x="560" y="0"/>
                  <a:pt x="1072" y="965"/>
                  <a:pt x="1320" y="1211"/>
                </a:cubicBezTo>
                <a:cubicBezTo>
                  <a:pt x="1568" y="1457"/>
                  <a:pt x="1677" y="1537"/>
                  <a:pt x="1828" y="1652"/>
                </a:cubicBezTo>
                <a:cubicBezTo>
                  <a:pt x="1979" y="1767"/>
                  <a:pt x="2073" y="1821"/>
                  <a:pt x="2225" y="1899"/>
                </a:cubicBezTo>
                <a:cubicBezTo>
                  <a:pt x="2377" y="1977"/>
                  <a:pt x="2574" y="2070"/>
                  <a:pt x="2741" y="2123"/>
                </a:cubicBezTo>
                <a:cubicBezTo>
                  <a:pt x="2908" y="2176"/>
                  <a:pt x="3126" y="2200"/>
                  <a:pt x="3227" y="222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877000"/>
            <a:ext cx="6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.2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79800" y="5740560"/>
            <a:ext cx="0" cy="13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58770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.03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313240" y="278100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13240" y="3193920"/>
            <a:ext cx="193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446120" y="3193920"/>
            <a:ext cx="386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2852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拒绝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2852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接受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24360" y="5157720"/>
                <a:ext cx="6638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620640"/>
                <a:ext cx="5446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843280" y="620640"/>
                <a:ext cx="1147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92360" y="1268280"/>
                <a:ext cx="1295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1773360"/>
                <a:ext cx="28274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19</m:t>
                    </m:r>
                    <m:r>
                      <m:t xml:space="preserve">≺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580000" y="549360"/>
            <a:ext cx="3048120" cy="1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结论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接受“赞成的比率一致”的原假设。即集团公司所属四个分公司的全体职工一致赞成此项改革。样本数据中赞成比率的差异由抽样的随机性所造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465300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自由度为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的     分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544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880" y="1916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经计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4320" y="12682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查表得临界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2280" y="6206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已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62064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自由度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236000" y="5950080"/>
                <a:ext cx="30132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403280" y="6093000"/>
            <a:ext cx="604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587700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15880" y="2968560"/>
            <a:ext cx="24120" cy="2906640"/>
          </a:xfrm>
          <a:custGeom>
            <a:avLst/>
            <a:gdLst/>
            <a:ahLst/>
            <a:rect l="l" t="t" r="r" b="b"/>
            <a:pathLst>
              <a:path w="15" h="1831">
                <a:moveTo>
                  <a:pt x="0" y="1831"/>
                </a:moveTo>
                <a:lnTo>
                  <a:pt x="1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5877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03280" y="6093000"/>
            <a:ext cx="604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1484280"/>
            <a:ext cx="3384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某啤酒厂生产三种类型啤酒：淡啤酒、普通啤酒、黑啤酒。会议上有人提出男性与女性饮酒者啤酒偏好是否相同的问题。若不同，公司将针对不同的目标市场采取不同的推销策略；若相同，公司将发起对所有啤酒的广告运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916360" y="3500280"/>
          <a:ext cx="3165480" cy="1703160"/>
        </p:xfrm>
        <a:graphic>
          <a:graphicData uri="http://schemas.openxmlformats.org/drawingml/2006/table">
            <a:tbl>
              <a:tblPr/>
              <a:tblGrid>
                <a:gridCol w="517320"/>
                <a:gridCol w="662040"/>
                <a:gridCol w="662040"/>
                <a:gridCol w="662040"/>
                <a:gridCol w="662040"/>
              </a:tblGrid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淡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啤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3621240" y="311940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男性与女性饮者啤酒偏好的样本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3280" y="6093000"/>
            <a:ext cx="604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19280" y="3789360"/>
            <a:ext cx="41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从样本数据上看，男性与女性的啤酒偏好比率存在差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92360" y="1844640"/>
          <a:ext cx="5900760" cy="1841400"/>
        </p:xfrm>
        <a:graphic>
          <a:graphicData uri="http://schemas.openxmlformats.org/drawingml/2006/table">
            <a:tbl>
              <a:tblPr/>
              <a:tblGrid>
                <a:gridCol w="528840"/>
                <a:gridCol w="671400"/>
                <a:gridCol w="671400"/>
                <a:gridCol w="671760"/>
                <a:gridCol w="671400"/>
                <a:gridCol w="671400"/>
                <a:gridCol w="671760"/>
                <a:gridCol w="671400"/>
                <a:gridCol w="671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淡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啤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率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率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率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率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195640" y="4797360"/>
            <a:ext cx="1871640" cy="367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从样本到总体的外推应通过假设检验完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1484280"/>
            <a:ext cx="252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不同性别饮酒偏好比率的样本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498920" y="4870440"/>
                <a:ext cx="409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859280" y="48704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男性与女性啤酒偏好相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5157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男性与女性啤酒偏好不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403280" y="6093000"/>
            <a:ext cx="604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836640"/>
            <a:ext cx="338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如果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zh-CN" sz="1200" spc="-1" strike="noStrike" baseline="-1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为真，则代表饮酒偏好的总比率对男性和女性饮酒者都适用，于是可根据总比率得出各单元的期望频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8720" y="4292640"/>
          <a:ext cx="3240000" cy="1655640"/>
        </p:xfrm>
        <a:graphic>
          <a:graphicData uri="http://schemas.openxmlformats.org/drawingml/2006/table">
            <a:tbl>
              <a:tblPr/>
              <a:tblGrid>
                <a:gridCol w="502920"/>
                <a:gridCol w="684360"/>
                <a:gridCol w="684360"/>
                <a:gridCol w="684000"/>
                <a:gridCol w="684360"/>
              </a:tblGrid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淡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啤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900000" y="1197000"/>
            <a:ext cx="29876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观察频数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observed frequency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简写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zh-CN" sz="1200" spc="-1" strike="noStrike" baseline="-1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8720" y="3933720"/>
            <a:ext cx="29876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期望频数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expected frequency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简写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zh-CN" sz="1200" spc="-1" strike="noStrike" baseline="-10000">
                <a:solidFill>
                  <a:srgbClr val="000000"/>
                </a:solidFill>
                <a:latin typeface="Tahoma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443640" y="2060640"/>
                <a:ext cx="1944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003640" y="21337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总比率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443640" y="2781360"/>
                <a:ext cx="19573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443640" y="3429000"/>
                <a:ext cx="19447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5929560" y="2054160"/>
            <a:ext cx="27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29560" y="2828880"/>
            <a:ext cx="27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29560" y="3527280"/>
            <a:ext cx="27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12000" y="4221000"/>
                <a:ext cx="1296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940360" y="5013360"/>
                <a:ext cx="360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940360" y="5373720"/>
                <a:ext cx="4968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0360" y="5732640"/>
                <a:ext cx="432000" cy="25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940360" y="6164280"/>
                <a:ext cx="28728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9" name=""/>
          <p:cNvGraphicFramePr/>
          <p:nvPr/>
        </p:nvGraphicFramePr>
        <p:xfrm>
          <a:off x="900000" y="1557360"/>
          <a:ext cx="3165480" cy="1703160"/>
        </p:xfrm>
        <a:graphic>
          <a:graphicData uri="http://schemas.openxmlformats.org/drawingml/2006/table">
            <a:tbl>
              <a:tblPr/>
              <a:tblGrid>
                <a:gridCol w="517320"/>
                <a:gridCol w="706680"/>
                <a:gridCol w="617400"/>
                <a:gridCol w="662040"/>
                <a:gridCol w="662040"/>
              </a:tblGrid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淡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啤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5314320" y="501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式中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46240" y="5013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该单元的期望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76840" y="53737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该单元所在行总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48120" y="57326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该单元所在列总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79840" y="609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样本容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44370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期望频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0920" y="3284640"/>
            <a:ext cx="4681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注意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用        进行假设检验时，每一单元的期望频数至少为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。当某一单元的期望频数小于时，通常将相年邻的类合并以使每一单元的期望频数大于或等于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6093000"/>
            <a:ext cx="604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052720" y="2419200"/>
                <a:ext cx="158436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013440" y="2635200"/>
                <a:ext cx="298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3716280"/>
                <a:ext cx="414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80000" y="270828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服从自由度为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R-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-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的      分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403280" y="6093000"/>
            <a:ext cx="604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05080" y="2701800"/>
          <a:ext cx="6551640" cy="1800360"/>
        </p:xfrm>
        <a:graphic>
          <a:graphicData uri="http://schemas.openxmlformats.org/drawingml/2006/table">
            <a:tbl>
              <a:tblPr/>
              <a:tblGrid>
                <a:gridCol w="647640"/>
                <a:gridCol w="704880"/>
                <a:gridCol w="619200"/>
                <a:gridCol w="619200"/>
                <a:gridCol w="792000"/>
                <a:gridCol w="863640"/>
                <a:gridCol w="1079640"/>
                <a:gridCol w="1225440"/>
              </a:tblGrid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偏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淡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淡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732720" y="2709720"/>
                <a:ext cx="1152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653080" y="2781360"/>
                <a:ext cx="9334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861080" y="2781360"/>
                <a:ext cx="6746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141800" y="2781360"/>
                <a:ext cx="5014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65440" y="2781360"/>
                <a:ext cx="1875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916360" y="2781360"/>
                <a:ext cx="199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2700360" y="234936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判定饮酒偏好是否与饮酒者性别有关所需检验统计量的计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03280" y="6093000"/>
            <a:ext cx="604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062160" y="1989000"/>
                <a:ext cx="8636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933800" y="1989000"/>
                <a:ext cx="14004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635280" y="2565360"/>
                <a:ext cx="145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205080" y="2925720"/>
                <a:ext cx="252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≻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556000" y="3573360"/>
            <a:ext cx="39607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结论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拒绝  “男性与女性啤酒偏好相同”的原假设并接受“男性与女性啤酒偏好不同”的备择假设。即啤酒的偏好与性别是有关联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50680" y="1967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已知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自由度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56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查表得临界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7440" y="314172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经计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3564000" y="3068640"/>
            <a:ext cx="1800000" cy="284040"/>
          </a:xfrm>
          <a:prstGeom prst="bevel">
            <a:avLst>
              <a:gd name="adj" fmla="val 432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3564000" y="3429000"/>
            <a:ext cx="863640" cy="287280"/>
          </a:xfrm>
          <a:prstGeom prst="bevel">
            <a:avLst>
              <a:gd name="adj" fmla="val 432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00720" y="3429000"/>
            <a:ext cx="863280" cy="287280"/>
          </a:xfrm>
          <a:prstGeom prst="bevel">
            <a:avLst>
              <a:gd name="adj" fmla="val 432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96360" y="0"/>
            <a:ext cx="1547640" cy="189000"/>
          </a:xfrm>
          <a:prstGeom prst="bevel">
            <a:avLst>
              <a:gd name="adj" fmla="val 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相关性测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3708360" y="2997360"/>
            <a:ext cx="1727280" cy="360360"/>
          </a:xfrm>
          <a:prstGeom prst="bevel">
            <a:avLst>
              <a:gd name="adj" fmla="val 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3708360" y="3429000"/>
            <a:ext cx="1727280" cy="360360"/>
          </a:xfrm>
          <a:prstGeom prst="bevel">
            <a:avLst>
              <a:gd name="adj" fmla="val 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相关性测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786200" y="1557360"/>
            <a:ext cx="3168720" cy="863640"/>
          </a:xfrm>
          <a:prstGeom prst="bevel">
            <a:avLst>
              <a:gd name="adj" fmla="val 290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859280" y="1628640"/>
                <a:ext cx="3024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930920" y="1268280"/>
                <a:ext cx="20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5073480" y="1197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相关系数计算公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516720" y="2492280"/>
                <a:ext cx="1433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4788000" y="2492280"/>
            <a:ext cx="150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适用于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 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362560" y="3573360"/>
                <a:ext cx="507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4367160"/>
                <a:ext cx="8812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≺</m:t>
                    </m:r>
                    <m:r>
                      <m:t xml:space="preserve">ϕ</m:t>
                    </m:r>
                    <m:r>
                      <m:t xml:space="preserve">≺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859280" y="4869000"/>
                <a:ext cx="10620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ϕ</m:t>
                    </m:r>
                    <m:r>
                      <m:t xml:space="preserve">≺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930920" y="5373720"/>
                <a:ext cx="871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≤</m:t>
                    </m:r>
                    <m:r>
                      <m:t xml:space="preserve">ϕ</m:t>
                    </m:r>
                    <m:r>
                      <m:t xml:space="preserve">≺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0" name=""/>
          <p:cNvGraphicFramePr/>
          <p:nvPr/>
        </p:nvGraphicFramePr>
        <p:xfrm>
          <a:off x="1332000" y="2421000"/>
          <a:ext cx="2660400" cy="1990800"/>
        </p:xfrm>
        <a:graphic>
          <a:graphicData uri="http://schemas.openxmlformats.org/drawingml/2006/table">
            <a:tbl>
              <a:tblPr/>
              <a:tblGrid>
                <a:gridCol w="664920"/>
                <a:gridCol w="665280"/>
                <a:gridCol w="665280"/>
                <a:gridCol w="66492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2124000" y="206064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573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无相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93372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完全相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867280" y="436572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弱相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4869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中度相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537372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高度相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80200" y="3933720"/>
                <a:ext cx="47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8388360" y="0"/>
            <a:ext cx="755640" cy="189000"/>
          </a:xfrm>
          <a:prstGeom prst="bevel">
            <a:avLst>
              <a:gd name="adj" fmla="val 4329"/>
            </a:avLst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356000" y="1413000"/>
                <a:ext cx="11955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437080" y="1052640"/>
                <a:ext cx="2253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88000" y="1628640"/>
                <a:ext cx="10130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932360" y="2349360"/>
                <a:ext cx="12556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268360" y="4005360"/>
                <a:ext cx="3854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d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979640" y="4797360"/>
                <a:ext cx="28274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364000" y="4941720"/>
                <a:ext cx="95112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932360" y="2997360"/>
                <a:ext cx="876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7" name=""/>
          <p:cNvGraphicFramePr/>
          <p:nvPr/>
        </p:nvGraphicFramePr>
        <p:xfrm>
          <a:off x="1332000" y="1197000"/>
          <a:ext cx="2660400" cy="1990800"/>
        </p:xfrm>
        <a:graphic>
          <a:graphicData uri="http://schemas.openxmlformats.org/drawingml/2006/table">
            <a:tbl>
              <a:tblPr/>
              <a:tblGrid>
                <a:gridCol w="664920"/>
                <a:gridCol w="665280"/>
                <a:gridCol w="665280"/>
                <a:gridCol w="66492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2124000" y="83664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1700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化简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96000" y="306864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可充当测量相关性的尺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27640" y="2421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即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63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因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56360" y="4005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于是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105264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变量     与变量      不相关时，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716360" y="1052640"/>
                <a:ext cx="22536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427640" y="3068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因此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8360" y="0"/>
            <a:ext cx="755640" cy="189000"/>
          </a:xfrm>
          <a:prstGeom prst="bevel">
            <a:avLst>
              <a:gd name="adj" fmla="val 4329"/>
            </a:avLst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340000" y="19177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411280" y="5157720"/>
                <a:ext cx="396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3780000" y="1341360"/>
            <a:ext cx="16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完全相关的两种情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476360" y="2276640"/>
          <a:ext cx="2660760" cy="1990440"/>
        </p:xfrm>
        <a:graphic>
          <a:graphicData uri="http://schemas.openxmlformats.org/drawingml/2006/table">
            <a:tbl>
              <a:tblPr/>
              <a:tblGrid>
                <a:gridCol w="665280"/>
                <a:gridCol w="665280"/>
                <a:gridCol w="665280"/>
                <a:gridCol w="664920"/>
              </a:tblGrid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5867280" y="1917720"/>
            <a:ext cx="9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003640" y="2276640"/>
          <a:ext cx="2660760" cy="1990440"/>
        </p:xfrm>
        <a:graphic>
          <a:graphicData uri="http://schemas.openxmlformats.org/drawingml/2006/table">
            <a:tbl>
              <a:tblPr/>
              <a:tblGrid>
                <a:gridCol w="665280"/>
                <a:gridCol w="665280"/>
                <a:gridCol w="665280"/>
                <a:gridCol w="664920"/>
              </a:tblGrid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8388360" y="0"/>
            <a:ext cx="755640" cy="189000"/>
          </a:xfrm>
          <a:prstGeom prst="bevel">
            <a:avLst>
              <a:gd name="adj" fmla="val 4329"/>
            </a:avLst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03640" y="47628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相关系数与     统计量的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58920" y="1268280"/>
            <a:ext cx="1800360" cy="1295640"/>
          </a:xfrm>
          <a:prstGeom prst="bevel">
            <a:avLst>
              <a:gd name="adj" fmla="val 290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203640" y="476280"/>
                <a:ext cx="3207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227640" y="1268280"/>
                <a:ext cx="1511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148280" y="1239840"/>
                <a:ext cx="1481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138560" y="2060640"/>
                <a:ext cx="1495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299280" y="2060640"/>
                <a:ext cx="151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474920" y="2060640"/>
                <a:ext cx="1022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ϕ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401840" y="1339920"/>
                <a:ext cx="950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809880" y="3573360"/>
                <a:ext cx="51548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c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c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d</m:t>
                                            </m:r>
                                          </m:e>
                                        </m:d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c</m:t>
                                            </m:r>
                                          </m:e>
                                        </m:d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d</m:t>
                                            </m:r>
                                          </m:e>
                                        </m:d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nϕ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35" name=""/>
          <p:cNvGraphicFramePr/>
          <p:nvPr/>
        </p:nvGraphicFramePr>
        <p:xfrm>
          <a:off x="826920" y="3575160"/>
          <a:ext cx="2660760" cy="1990440"/>
        </p:xfrm>
        <a:graphic>
          <a:graphicData uri="http://schemas.openxmlformats.org/drawingml/2006/table">
            <a:tbl>
              <a:tblPr/>
              <a:tblGrid>
                <a:gridCol w="665280"/>
                <a:gridCol w="665280"/>
                <a:gridCol w="665280"/>
                <a:gridCol w="664920"/>
              </a:tblGrid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36" name=""/>
          <p:cNvSpPr/>
          <p:nvPr/>
        </p:nvSpPr>
        <p:spPr>
          <a:xfrm>
            <a:off x="1619280" y="32148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211640" y="404640"/>
                <a:ext cx="2728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2409840" y="1555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388360" y="0"/>
            <a:ext cx="755640" cy="189000"/>
          </a:xfrm>
          <a:prstGeom prst="bevel">
            <a:avLst>
              <a:gd name="adj" fmla="val 4329"/>
            </a:avLst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01840" y="2133720"/>
            <a:ext cx="3124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丹麦人与法国人以同样的眼光看待陌生人吗？一次抽样调查中就“你认为大多数人都可信赖呢？还是认为与人相处要处处小心？”这一问题，获得数据如下表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要求：判定“国籍”与“态度”两变量间的相关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859280" y="1916280"/>
          <a:ext cx="2959200" cy="2190600"/>
        </p:xfrm>
        <a:graphic>
          <a:graphicData uri="http://schemas.openxmlformats.org/drawingml/2006/table">
            <a:tbl>
              <a:tblPr/>
              <a:tblGrid>
                <a:gridCol w="739800"/>
                <a:gridCol w="739800"/>
                <a:gridCol w="739800"/>
                <a:gridCol w="739800"/>
              </a:tblGrid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丹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信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怀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5867280" y="152388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057400" y="4419720"/>
                <a:ext cx="547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6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31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23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>
            <a:hlinkClick r:id="rId18" action="ppaction://hlinksldjump"/>
          </p:cNvPr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16000" y="5638680"/>
            <a:ext cx="71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相关系数比较适用于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。列联表的行数和列数大于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时，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相关系数会出现大于是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88360" y="0"/>
            <a:ext cx="755640" cy="189000"/>
          </a:xfrm>
          <a:prstGeom prst="bevel">
            <a:avLst>
              <a:gd name="adj" fmla="val 4329"/>
            </a:avLst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564000" y="2205000"/>
            <a:ext cx="1800000" cy="1152720"/>
          </a:xfrm>
          <a:prstGeom prst="bevel">
            <a:avLst>
              <a:gd name="adj" fmla="val 290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708360" y="2349360"/>
                <a:ext cx="1513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564000" y="3429000"/>
                <a:ext cx="8636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≺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5796000" y="2565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适用于大于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 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763640" y="2565360"/>
                <a:ext cx="5032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86080" y="4267080"/>
                <a:ext cx="3380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3" name=""/>
          <p:cNvGraphicFramePr/>
          <p:nvPr/>
        </p:nvGraphicFramePr>
        <p:xfrm>
          <a:off x="2421000" y="4627440"/>
          <a:ext cx="4101840" cy="54612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  <a:gridCol w="1025640"/>
                <a:gridCol w="1025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列联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×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×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×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最大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3429000" y="426708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的最大值依赖于列联表的行列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256536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无相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348000" y="1844640"/>
                <a:ext cx="3571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3492360" y="1844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相关系数（列联系数）计算公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8360" y="0"/>
            <a:ext cx="755640" cy="189000"/>
          </a:xfrm>
          <a:prstGeom prst="bevel">
            <a:avLst>
              <a:gd name="adj" fmla="val 432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448000" y="1617840"/>
            <a:ext cx="46083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一种原料来自三个不同的地区，原料质量被分成三个不同等级。从这批原料中随机抽取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500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件进行检验，得样本数据如下表所示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590920" y="2971800"/>
          <a:ext cx="4389480" cy="1801800"/>
        </p:xfrm>
        <a:graphic>
          <a:graphicData uri="http://schemas.openxmlformats.org/drawingml/2006/table">
            <a:tbl>
              <a:tblPr/>
              <a:tblGrid>
                <a:gridCol w="877680"/>
                <a:gridCol w="878040"/>
                <a:gridCol w="878040"/>
                <a:gridCol w="877680"/>
                <a:gridCol w="87804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区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区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区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4175280" y="261144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原料抽样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90920" y="4916520"/>
            <a:ext cx="34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要求：检验地区与原料质量之间有无依赖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88360" y="0"/>
            <a:ext cx="755640" cy="189000"/>
          </a:xfrm>
          <a:prstGeom prst="bevel">
            <a:avLst>
              <a:gd name="adj" fmla="val 432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1258920" y="693720"/>
          <a:ext cx="6337440" cy="4111560"/>
        </p:xfrm>
        <a:graphic>
          <a:graphicData uri="http://schemas.openxmlformats.org/drawingml/2006/table">
            <a:tbl>
              <a:tblPr/>
              <a:tblGrid>
                <a:gridCol w="841680"/>
                <a:gridCol w="841320"/>
                <a:gridCol w="766800"/>
                <a:gridCol w="790560"/>
                <a:gridCol w="792000"/>
                <a:gridCol w="1015920"/>
                <a:gridCol w="1289160"/>
              </a:tblGrid>
              <a:tr h="104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性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偏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0 5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24 -6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50920" y="5229360"/>
                <a:ext cx="20127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6299280" y="909720"/>
                <a:ext cx="1184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364000" y="909720"/>
                <a:ext cx="857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572000" y="909720"/>
                <a:ext cx="638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95640" y="909720"/>
                <a:ext cx="236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03640" y="909720"/>
                <a:ext cx="255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2627280" y="333360"/>
            <a:ext cx="407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为判定地区是否与原料质量相关所需      统计量的计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292720" y="5229360"/>
                <a:ext cx="3672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484360" y="5157720"/>
                <a:ext cx="259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>
            <a:hlinkClick r:id="rId2" action="ppaction://hlinksldjump"/>
          </p:cNvPr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219640" y="260280"/>
                <a:ext cx="2872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8388360" y="0"/>
            <a:ext cx="755640" cy="189000"/>
          </a:xfrm>
          <a:prstGeom prst="bevel">
            <a:avLst>
              <a:gd name="adj" fmla="val 432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348000" y="2058840"/>
            <a:ext cx="1728720" cy="1008360"/>
          </a:xfrm>
          <a:prstGeom prst="bevel">
            <a:avLst>
              <a:gd name="adj" fmla="val 290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492360" y="2203560"/>
                <a:ext cx="144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116000" y="2637000"/>
                <a:ext cx="15098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V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1042920" y="21337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适用于大于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 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11960" y="2637000"/>
                <a:ext cx="1288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limUpp>
                      <m:e/>
                      <m:lim/>
                    </m:limUpp>
                    <m:r>
                      <m:t xml:space="preserve">时</m:t>
                    </m:r>
                    <m:limUpp>
                      <m:e/>
                      <m:lim/>
                    </m:limUpp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403280" y="3573360"/>
                <a:ext cx="3529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1332000" y="4724280"/>
            <a:ext cx="37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计算结果表明：“地区”与“原料质量”之间低度相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80000" y="2060640"/>
                <a:ext cx="432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867280" y="206064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行数和列数中较小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348000" y="1700280"/>
                <a:ext cx="40320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3492360" y="170028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相关系数计算公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55200" y="5638680"/>
            <a:ext cx="464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相关系数解决了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相关系数无上界和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相关系数小于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的情况。两个变量无相关时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V=0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；两个变量完全相关时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388360" y="0"/>
            <a:ext cx="755640" cy="189000"/>
          </a:xfrm>
          <a:prstGeom prst="bevel">
            <a:avLst>
              <a:gd name="adj" fmla="val 432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284720" y="3357720"/>
            <a:ext cx="503280" cy="431640"/>
          </a:xfrm>
          <a:prstGeom prst="bevel">
            <a:avLst>
              <a:gd name="adj" fmla="val 392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结 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56000" y="1052640"/>
            <a:ext cx="41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某集团公司打算进行一项改革，但此项改革涉及到各分公司的利益。今采用抽样方法分别从下设的四个分公司中共抽取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420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名职工了解对此项改革的看法。如果四个分公司对改革的看法一致，则决定实施这项改革。调查结果如下表所示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29000" y="3040200"/>
          <a:ext cx="3981240" cy="2100240"/>
        </p:xfrm>
        <a:graphic>
          <a:graphicData uri="http://schemas.openxmlformats.org/drawingml/2006/table">
            <a:tbl>
              <a:tblPr/>
              <a:tblGrid>
                <a:gridCol w="663480"/>
                <a:gridCol w="663480"/>
                <a:gridCol w="663480"/>
                <a:gridCol w="663480"/>
                <a:gridCol w="663840"/>
                <a:gridCol w="6634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赞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421080" y="26370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关于改革方案调查结果的样本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5372280"/>
            <a:ext cx="3168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列联表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是描述两个分类变量的频数分布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3851280" y="3141720"/>
            <a:ext cx="1584360" cy="28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作卡方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598840" y="952560"/>
          <a:ext cx="3981240" cy="2100240"/>
        </p:xfrm>
        <a:graphic>
          <a:graphicData uri="http://schemas.openxmlformats.org/drawingml/2006/table">
            <a:tbl>
              <a:tblPr/>
              <a:tblGrid>
                <a:gridCol w="663480"/>
                <a:gridCol w="663480"/>
                <a:gridCol w="663480"/>
                <a:gridCol w="663480"/>
                <a:gridCol w="663840"/>
                <a:gridCol w="6634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赞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3132000" y="62064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关于改革方案调查结果的样本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55640" y="3284640"/>
            <a:ext cx="3451320" cy="3156120"/>
            <a:chOff x="755640" y="3284640"/>
            <a:chExt cx="3451320" cy="3156120"/>
          </a:xfrm>
        </p:grpSpPr>
        <p:sp>
          <p:nvSpPr>
            <p:cNvPr id="395" name=""/>
            <p:cNvSpPr/>
            <p:nvPr/>
          </p:nvSpPr>
          <p:spPr>
            <a:xfrm>
              <a:off x="755640" y="378936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态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5640" y="4148280"/>
              <a:ext cx="54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赞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5640" y="443700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反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58920" y="3789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8920" y="4148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8920" y="4437000"/>
              <a:ext cx="2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65440" y="3789360"/>
              <a:ext cx="5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公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65440" y="4148280"/>
              <a:ext cx="58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公司</a:t>
              </a: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65440" y="4437000"/>
              <a:ext cx="57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公司</a:t>
              </a: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65440" y="4724280"/>
              <a:ext cx="57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公司</a:t>
              </a: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65440" y="5013360"/>
              <a:ext cx="57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公司</a:t>
              </a: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0000" y="3789360"/>
              <a:ext cx="33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40000" y="4148280"/>
              <a:ext cx="3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40000" y="443700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40000" y="472428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40000" y="5013360"/>
              <a:ext cx="4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87640" y="3789360"/>
              <a:ext cx="83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观察频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80000" y="378936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74400" y="3284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定义变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77480" y="41482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77480" y="44370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77480" y="47242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77480" y="50133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7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77480" y="53006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77480" y="55897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77480" y="58770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77480" y="61642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26920" y="4076640"/>
              <a:ext cx="32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92720" y="3284640"/>
            <a:ext cx="2805120" cy="3160440"/>
            <a:chOff x="5292720" y="3284640"/>
            <a:chExt cx="2805120" cy="3160440"/>
          </a:xfrm>
        </p:grpSpPr>
        <p:sp>
          <p:nvSpPr>
            <p:cNvPr id="424" name=""/>
            <p:cNvSpPr/>
            <p:nvPr/>
          </p:nvSpPr>
          <p:spPr>
            <a:xfrm>
              <a:off x="7348680" y="6129360"/>
              <a:ext cx="749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99160" y="6129360"/>
              <a:ext cx="7495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50000" y="6129360"/>
              <a:ext cx="749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2720" y="6129360"/>
              <a:ext cx="557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48680" y="5813280"/>
              <a:ext cx="7491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99160" y="5813280"/>
              <a:ext cx="7495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50000" y="5813280"/>
              <a:ext cx="7491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92720" y="5813280"/>
              <a:ext cx="5572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48680" y="5497560"/>
              <a:ext cx="749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99160" y="5497560"/>
              <a:ext cx="7495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50000" y="5497560"/>
              <a:ext cx="749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92720" y="5497560"/>
              <a:ext cx="557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8680" y="5181480"/>
              <a:ext cx="7491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99160" y="5181480"/>
              <a:ext cx="7495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50000" y="5181480"/>
              <a:ext cx="7491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92720" y="5181480"/>
              <a:ext cx="5572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48680" y="4865760"/>
              <a:ext cx="749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99160" y="4865760"/>
              <a:ext cx="7495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50000" y="4865760"/>
              <a:ext cx="749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92720" y="4865760"/>
              <a:ext cx="557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48680" y="4549680"/>
              <a:ext cx="7491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99160" y="4549680"/>
              <a:ext cx="7495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50000" y="4549680"/>
              <a:ext cx="7491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92720" y="4549680"/>
              <a:ext cx="5572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48680" y="4233960"/>
              <a:ext cx="749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99160" y="4233960"/>
              <a:ext cx="7495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50000" y="4233960"/>
              <a:ext cx="749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92720" y="4233960"/>
              <a:ext cx="557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48680" y="3917880"/>
              <a:ext cx="7491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99160" y="3917880"/>
              <a:ext cx="7495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50000" y="3917880"/>
              <a:ext cx="7491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92720" y="3917880"/>
              <a:ext cx="5572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48680" y="3645000"/>
              <a:ext cx="7491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99160" y="3645000"/>
              <a:ext cx="7495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50000" y="3645000"/>
              <a:ext cx="7491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92720" y="3645000"/>
              <a:ext cx="5572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序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92720" y="3645000"/>
              <a:ext cx="2805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92720" y="3917880"/>
              <a:ext cx="28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92720" y="4233960"/>
              <a:ext cx="28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92720" y="4549680"/>
              <a:ext cx="28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92720" y="4865760"/>
              <a:ext cx="28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92720" y="5181480"/>
              <a:ext cx="28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92720" y="5497560"/>
              <a:ext cx="28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92720" y="5813280"/>
              <a:ext cx="28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92720" y="6129360"/>
              <a:ext cx="28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92720" y="6445080"/>
              <a:ext cx="2805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92720" y="3645000"/>
              <a:ext cx="0" cy="2800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50000" y="3645000"/>
              <a:ext cx="0" cy="28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99160" y="3645000"/>
              <a:ext cx="0" cy="28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48680" y="3645000"/>
              <a:ext cx="0" cy="28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97840" y="3645000"/>
              <a:ext cx="0" cy="2800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12360" y="3284640"/>
              <a:ext cx="157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列联表在</a:t>
              </a: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spss</a:t>
              </a: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数据集中的排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5854320" y="685800"/>
            <a:ext cx="71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数据集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9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3708360" y="3860640"/>
          <a:ext cx="4859280" cy="256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3860640"/>
                    <a:ext cx="4859280" cy="25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3780000" y="1341360"/>
            <a:ext cx="482436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、打开数据集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、点击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、点击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weight cases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；弹出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weight cases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对话框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、选择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weight cases by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、将变量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Fo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点击进入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frequency variable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框内，对其进行加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28000" y="4292640"/>
            <a:ext cx="482760" cy="36036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539640" y="333360"/>
            <a:ext cx="2827440" cy="38163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140360" y="4797360"/>
            <a:ext cx="1800000" cy="64764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419640" y="400536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148360" y="2781360"/>
            <a:ext cx="2736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、点击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analyze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、选择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descriptive statistics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、在下拉菜单中选择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rosstabs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，进行列联表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3436920" cy="56167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5148360" y="1341360"/>
            <a:ext cx="2749320" cy="136692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4859280" y="148428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956720" y="256536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763640" y="1268280"/>
          <a:ext cx="5616720" cy="419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268280"/>
                    <a:ext cx="56167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4356000" y="1844640"/>
            <a:ext cx="31932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356000" y="2637000"/>
            <a:ext cx="2872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95640" y="4508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显示交叉频数分布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22560" y="5156280"/>
            <a:ext cx="865440" cy="2887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59280" y="5156280"/>
            <a:ext cx="863640" cy="2887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96000" y="5156280"/>
            <a:ext cx="863640" cy="2887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588000" y="1555920"/>
            <a:ext cx="648000" cy="2887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19640" y="17002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指定行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19640" y="24922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指定列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1835280" y="692280"/>
            <a:ext cx="7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1197000"/>
            <a:ext cx="15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定类变量相关指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5880" y="6094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相关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92360" y="17002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列联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87640" y="2276640"/>
            <a:ext cx="9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Φ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和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92360" y="270828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λ</a:t>
            </a: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19640" y="3284640"/>
            <a:ext cx="9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不确定系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92720" y="1197000"/>
            <a:ext cx="162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定序变量的相关指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876920"/>
            <a:ext cx="97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本例中选择</a:t>
            </a:r>
            <a:br>
              <a:rPr sz="1200"/>
            </a:b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chi-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609480"/>
            <a:ext cx="1447920" cy="5335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763640" y="90792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1640" y="177336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观察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56000" y="249228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期望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3933720"/>
            <a:ext cx="5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频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35280" y="4653000"/>
            <a:ext cx="65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行频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40000" y="5373720"/>
            <a:ext cx="7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列频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08000" y="6021360"/>
            <a:ext cx="79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总和频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300720" y="3860640"/>
            <a:ext cx="5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残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40720" y="4724280"/>
            <a:ext cx="8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未标准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08720" y="537372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已标准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93080" y="6381720"/>
            <a:ext cx="147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已由标准误标准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0" y="1844640"/>
            <a:ext cx="122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本例中选择频数中的两选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838080"/>
            <a:ext cx="2057400" cy="7621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140360" y="3500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升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19640" y="1916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行顺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427640" y="515772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降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62720" y="1828800"/>
            <a:ext cx="3112920" cy="13716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898960" cy="29509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5905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61549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490840" y="2119320"/>
          <a:ext cx="4886280" cy="2658960"/>
        </p:xfrm>
        <a:graphic>
          <a:graphicData uri="http://schemas.openxmlformats.org/drawingml/2006/table">
            <a:tbl>
              <a:tblPr/>
              <a:tblGrid>
                <a:gridCol w="814320"/>
                <a:gridCol w="814320"/>
                <a:gridCol w="814680"/>
                <a:gridCol w="814320"/>
                <a:gridCol w="814320"/>
                <a:gridCol w="81432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284720" y="1773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R×C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2060640"/>
            <a:ext cx="118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取值多的变量表示为列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7080" y="2421000"/>
            <a:ext cx="217440" cy="3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268280"/>
            <a:ext cx="116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取值少的变量表示为行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149720"/>
            <a:ext cx="959040" cy="64116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变量单元频数的合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1268280"/>
            <a:ext cx="1068480" cy="64116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行变量单元频数的合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2720" y="4941720"/>
            <a:ext cx="53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样本容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6949800" y="4797000"/>
            <a:ext cx="11160" cy="181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82760" y="2565360"/>
            <a:ext cx="70200" cy="69840"/>
          </a:xfrm>
          <a:custGeom>
            <a:avLst/>
            <a:gdLst/>
            <a:ahLst/>
            <a:rect l="l" t="t" r="r" b="b"/>
            <a:pathLst>
              <a:path w="75" h="90">
                <a:moveTo>
                  <a:pt x="0" y="0"/>
                </a:moveTo>
                <a:lnTo>
                  <a:pt x="75" y="90"/>
                </a:lnTo>
              </a:path>
            </a:pathLst>
          </a:custGeom>
          <a:noFill/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2133720"/>
            <a:ext cx="6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单元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察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987640" y="2205000"/>
                <a:ext cx="255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2881440" y="1881360"/>
            <a:ext cx="2880" cy="217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50160" y="1916280"/>
            <a:ext cx="3240" cy="217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5800" y="4508640"/>
            <a:ext cx="217440" cy="2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69228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的一般结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348000" y="5300640"/>
                <a:ext cx="30243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1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自由度</m:t>
                    </m:r>
                    <m:r>
                      <m:t xml:space="preserve">=</m:t>
                    </m:r>
                    <m:r>
                      <m:t xml:space="preserve">3</m:t>
                    </m:r>
                    <m:limUpp>
                      <m:e/>
                      <m:lim/>
                    </m:limUpp>
                    <m:r>
                      <m:t xml:space="preserve">P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0</m:t>
                    </m:r>
                    <m:r>
                      <m:t xml:space="preserve">≻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488360" cy="41036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116000" y="2637000"/>
            <a:ext cx="712800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5877000"/>
            <a:ext cx="31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故接受原假设。即四个分公司态度一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424720" cy="51944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533520" y="609480"/>
            <a:ext cx="79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如果在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rosstabs cell display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对话中，选择了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oun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中的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observed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expected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percentages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中的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row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olumn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，系统将输出如下列联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2257560" y="3333600"/>
          <a:ext cx="5051160" cy="1955880"/>
        </p:xfrm>
        <a:graphic>
          <a:graphicData uri="http://schemas.openxmlformats.org/drawingml/2006/table">
            <a:tbl>
              <a:tblPr/>
              <a:tblGrid>
                <a:gridCol w="345960"/>
                <a:gridCol w="843120"/>
                <a:gridCol w="1089000"/>
                <a:gridCol w="1089000"/>
                <a:gridCol w="1090440"/>
                <a:gridCol w="593640"/>
              </a:tblGrid>
              <a:tr h="367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br>
                        <a:rPr sz="1200"/>
                      </a:b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fo</a:t>
                      </a:r>
                      <a:br>
                        <a:rPr sz="1200"/>
                      </a:b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            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满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基本满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能够满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融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统计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    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2124000" y="1628640"/>
            <a:ext cx="518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为了解非计算机专业对计算机课程教学的意见，在金融系和统计系本科生中进行了一次抽样调查，得到了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390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名学生的调查数据。试据此推断两系本科生对计算机课程教学的意见是否一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41920" y="2895480"/>
            <a:ext cx="164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关于计算机课程教学意见的样本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385320" y="2971800"/>
            <a:ext cx="802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数据集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2842920" y="3357720"/>
            <a:ext cx="57636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2257560" y="3835080"/>
            <a:ext cx="116208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4537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597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5370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975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5335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0" name=""/>
          <p:cNvGraphicFramePr/>
          <p:nvPr/>
        </p:nvGraphicFramePr>
        <p:xfrm>
          <a:off x="2340000" y="2781360"/>
          <a:ext cx="4968720" cy="1641240"/>
        </p:xfrm>
        <a:graphic>
          <a:graphicData uri="http://schemas.openxmlformats.org/drawingml/2006/table">
            <a:tbl>
              <a:tblPr/>
              <a:tblGrid>
                <a:gridCol w="576000"/>
                <a:gridCol w="978120"/>
                <a:gridCol w="1109520"/>
                <a:gridCol w="1152720"/>
                <a:gridCol w="1152360"/>
              </a:tblGrid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变量间的关系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变量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统计分析方法选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类型变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型变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值型变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63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变量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值型变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差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归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型变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秩的方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36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类型变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卡方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逻辑斯蒂分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495680" y="3357720"/>
            <a:ext cx="581040" cy="492120"/>
          </a:xfrm>
          <a:prstGeom prst="bevel">
            <a:avLst>
              <a:gd name="adj" fmla="val 392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结 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979640" y="1484280"/>
          <a:ext cx="5033880" cy="2745000"/>
        </p:xfrm>
        <a:graphic>
          <a:graphicData uri="http://schemas.openxmlformats.org/drawingml/2006/table">
            <a:tbl>
              <a:tblPr/>
              <a:tblGrid>
                <a:gridCol w="719280"/>
                <a:gridCol w="718920"/>
                <a:gridCol w="719280"/>
                <a:gridCol w="719280"/>
                <a:gridCol w="718920"/>
                <a:gridCol w="719280"/>
                <a:gridCol w="718920"/>
              </a:tblGrid>
              <a:tr h="392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赞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率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率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392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率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365640" y="1065240"/>
            <a:ext cx="22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赞成或反对的比率的样本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443700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从样本数据上看，各公司的赞成（反对）比率存在差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48360" y="5084640"/>
                <a:ext cx="3301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906560" y="5086440"/>
            <a:ext cx="31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从样本到总体的外推可通过假设检验完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50846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赞成的比率一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544500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赞成的比率不一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148360" y="5445000"/>
                <a:ext cx="3157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476280"/>
            <a:ext cx="882000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ontingency table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在卡方检验中，用于汇总观察频数与期频数的表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卡方分布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hi-square distribution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一种概率分布。随着自由度的增大，卡方分布将趋近于正态分布。常用于列联表中变量之间是否相关的检验，尤其适合于两个定类变量之间是否相关的检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观察频数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observed frequency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实际观测频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期望频数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expected frequency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为检验列表中变量的独立性，而根据观察频数计算出来的理论频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系数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oefficient of contingency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简称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系数主要用于大于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×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变量间相关程度的测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684360" cy="189000"/>
          </a:xfrm>
          <a:prstGeom prst="bevel">
            <a:avLst>
              <a:gd name="adj" fmla="val 290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ahoma"/>
              </a:rPr>
              <a:t>关键术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495680" y="3357720"/>
            <a:ext cx="581040" cy="492120"/>
          </a:xfrm>
          <a:prstGeom prst="bevel">
            <a:avLst>
              <a:gd name="adj" fmla="val 392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结 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7080" y="3427560"/>
            <a:ext cx="60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如果     为真，则总比率对各公司都适用。于是可根据总比率得出各单元的期望频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01800" y="979560"/>
          <a:ext cx="4419360" cy="2100240"/>
        </p:xfrm>
        <a:graphic>
          <a:graphicData uri="http://schemas.openxmlformats.org/drawingml/2006/table">
            <a:tbl>
              <a:tblPr/>
              <a:tblGrid>
                <a:gridCol w="736200"/>
                <a:gridCol w="736560"/>
                <a:gridCol w="736560"/>
                <a:gridCol w="736560"/>
                <a:gridCol w="736920"/>
                <a:gridCol w="73656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赞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900000" y="4435560"/>
          <a:ext cx="4419720" cy="210024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赞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757080" y="619200"/>
            <a:ext cx="2988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观察频数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observed frequency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简写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zh-CN" sz="1200" spc="-1" strike="noStrike" baseline="-1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4075200"/>
            <a:ext cx="30589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期望频数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expected frequency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简写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zh-CN" sz="1200" spc="-1" strike="noStrike" baseline="-10000">
                <a:solidFill>
                  <a:srgbClr val="000000"/>
                </a:solidFill>
                <a:latin typeface="Tahoma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012000" y="1268280"/>
                <a:ext cx="2162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012000" y="9079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总赞成比率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2205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总反对比率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2563920"/>
                <a:ext cx="208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363920"/>
                <a:ext cx="2013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940360" y="4940280"/>
                <a:ext cx="360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869080" y="5372280"/>
                <a:ext cx="431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40360" y="5803920"/>
                <a:ext cx="360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940360" y="6235560"/>
                <a:ext cx="33804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89080" y="3427560"/>
                <a:ext cx="2476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227640" y="4940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该单元的期望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5372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该单元所在行总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5803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该单元所在列总频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6164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样本容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356000" y="1773360"/>
                <a:ext cx="2192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13440" y="2494080"/>
                <a:ext cx="235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414440" y="2992320"/>
            <a:ext cx="5122800" cy="3102120"/>
          </a:xfrm>
          <a:custGeom>
            <a:avLst/>
            <a:gdLst/>
            <a:ahLst/>
            <a:rect l="l" t="t" r="r" b="b"/>
            <a:pathLst>
              <a:path w="3227" h="2279">
                <a:moveTo>
                  <a:pt x="0" y="2279"/>
                </a:moveTo>
                <a:cubicBezTo>
                  <a:pt x="57" y="1929"/>
                  <a:pt x="120" y="356"/>
                  <a:pt x="340" y="178"/>
                </a:cubicBezTo>
                <a:cubicBezTo>
                  <a:pt x="560" y="0"/>
                  <a:pt x="1072" y="965"/>
                  <a:pt x="1320" y="1211"/>
                </a:cubicBezTo>
                <a:cubicBezTo>
                  <a:pt x="1568" y="1457"/>
                  <a:pt x="1677" y="1537"/>
                  <a:pt x="1828" y="1652"/>
                </a:cubicBezTo>
                <a:cubicBezTo>
                  <a:pt x="1979" y="1767"/>
                  <a:pt x="2073" y="1821"/>
                  <a:pt x="2225" y="1899"/>
                </a:cubicBezTo>
                <a:cubicBezTo>
                  <a:pt x="2377" y="1977"/>
                  <a:pt x="2574" y="2070"/>
                  <a:pt x="2741" y="2123"/>
                </a:cubicBezTo>
                <a:cubicBezTo>
                  <a:pt x="2908" y="2176"/>
                  <a:pt x="3126" y="2200"/>
                  <a:pt x="3227" y="222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6029280"/>
            <a:ext cx="1440" cy="162000"/>
          </a:xfrm>
          <a:custGeom>
            <a:avLst/>
            <a:gdLst/>
            <a:ahLst/>
            <a:rect l="l" t="t" r="r" b="b"/>
            <a:pathLst>
              <a:path w="1" h="119">
                <a:moveTo>
                  <a:pt x="0" y="119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57640" y="6029280"/>
            <a:ext cx="1440" cy="162000"/>
          </a:xfrm>
          <a:custGeom>
            <a:avLst/>
            <a:gdLst/>
            <a:ahLst/>
            <a:rect l="l" t="t" r="r" b="b"/>
            <a:pathLst>
              <a:path w="1" h="119">
                <a:moveTo>
                  <a:pt x="0" y="119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29240" y="6029280"/>
            <a:ext cx="1440" cy="162000"/>
          </a:xfrm>
          <a:custGeom>
            <a:avLst/>
            <a:gdLst/>
            <a:ahLst/>
            <a:rect l="l" t="t" r="r" b="b"/>
            <a:pathLst>
              <a:path w="1" h="119">
                <a:moveTo>
                  <a:pt x="0" y="119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00840" y="6029280"/>
            <a:ext cx="1440" cy="162000"/>
          </a:xfrm>
          <a:custGeom>
            <a:avLst/>
            <a:gdLst/>
            <a:ahLst/>
            <a:rect l="l" t="t" r="r" b="b"/>
            <a:pathLst>
              <a:path w="1" h="119">
                <a:moveTo>
                  <a:pt x="0" y="119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27320" y="5505480"/>
            <a:ext cx="177480" cy="1440"/>
          </a:xfrm>
          <a:custGeom>
            <a:avLst/>
            <a:gdLst/>
            <a:ahLst/>
            <a:rect l="l" t="t" r="r" b="b"/>
            <a:pathLst>
              <a:path w="112" h="1">
                <a:moveTo>
                  <a:pt x="0" y="0"/>
                </a:moveTo>
                <a:lnTo>
                  <a:pt x="112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8120" y="4916520"/>
            <a:ext cx="177840" cy="1440"/>
          </a:xfrm>
          <a:custGeom>
            <a:avLst/>
            <a:gdLst/>
            <a:ahLst/>
            <a:rect l="l" t="t" r="r" b="b"/>
            <a:pathLst>
              <a:path w="112" h="1">
                <a:moveTo>
                  <a:pt x="0" y="0"/>
                </a:moveTo>
                <a:lnTo>
                  <a:pt x="112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8120" y="4330800"/>
            <a:ext cx="177840" cy="1440"/>
          </a:xfrm>
          <a:custGeom>
            <a:avLst/>
            <a:gdLst/>
            <a:ahLst/>
            <a:rect l="l" t="t" r="r" b="b"/>
            <a:pathLst>
              <a:path w="112" h="1">
                <a:moveTo>
                  <a:pt x="0" y="0"/>
                </a:moveTo>
                <a:lnTo>
                  <a:pt x="112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14440" y="6094440"/>
            <a:ext cx="6858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14440" y="2501640"/>
            <a:ext cx="1440" cy="35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8120" y="3743280"/>
            <a:ext cx="177840" cy="360"/>
          </a:xfrm>
          <a:custGeom>
            <a:avLst/>
            <a:gdLst/>
            <a:ahLst/>
            <a:rect l="l" t="t" r="r" b="b"/>
            <a:pathLst>
              <a:path w="112" h="1">
                <a:moveTo>
                  <a:pt x="0" y="0"/>
                </a:moveTo>
                <a:lnTo>
                  <a:pt x="112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8120" y="2502000"/>
            <a:ext cx="177840" cy="1303200"/>
          </a:xfrm>
          <a:custGeom>
            <a:avLst/>
            <a:gdLst/>
            <a:ahLst/>
            <a:rect l="l" t="t" r="r" b="b"/>
            <a:pathLst>
              <a:path w="112" h="1">
                <a:moveTo>
                  <a:pt x="0" y="0"/>
                </a:moveTo>
                <a:lnTo>
                  <a:pt x="112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72440" y="6029280"/>
            <a:ext cx="1440" cy="162000"/>
          </a:xfrm>
          <a:custGeom>
            <a:avLst/>
            <a:gdLst/>
            <a:ahLst/>
            <a:rect l="l" t="t" r="r" b="b"/>
            <a:pathLst>
              <a:path w="1" h="119">
                <a:moveTo>
                  <a:pt x="0" y="119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62160" y="62247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05360" y="62247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33760" y="62247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76960" y="62247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8640" y="5877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8640" y="534348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8640" y="4734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8640" y="4200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8640" y="298116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8640" y="3591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48560" y="62247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45280" y="6222960"/>
            <a:ext cx="4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8640" y="2371680"/>
            <a:ext cx="6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.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8120" y="2502000"/>
            <a:ext cx="177840" cy="1303200"/>
          </a:xfrm>
          <a:custGeom>
            <a:avLst/>
            <a:gdLst/>
            <a:ahLst/>
            <a:rect l="l" t="t" r="r" b="b"/>
            <a:pathLst>
              <a:path w="112" h="1">
                <a:moveTo>
                  <a:pt x="0" y="0"/>
                </a:moveTo>
                <a:lnTo>
                  <a:pt x="112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8120" y="3156120"/>
            <a:ext cx="177840" cy="1303200"/>
          </a:xfrm>
          <a:custGeom>
            <a:avLst/>
            <a:gdLst/>
            <a:ahLst/>
            <a:rect l="l" t="t" r="r" b="b"/>
            <a:pathLst>
              <a:path w="112" h="1">
                <a:moveTo>
                  <a:pt x="0" y="0"/>
                </a:moveTo>
                <a:lnTo>
                  <a:pt x="112" y="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4440" y="6029280"/>
            <a:ext cx="144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90760" y="4118040"/>
            <a:ext cx="5854680" cy="1942920"/>
          </a:xfrm>
          <a:custGeom>
            <a:avLst/>
            <a:gdLst/>
            <a:ahLst/>
            <a:rect l="l" t="t" r="r" b="b"/>
            <a:pathLst>
              <a:path w="3688" h="1429">
                <a:moveTo>
                  <a:pt x="0" y="1429"/>
                </a:moveTo>
                <a:cubicBezTo>
                  <a:pt x="76" y="1370"/>
                  <a:pt x="245" y="1308"/>
                  <a:pt x="456" y="1074"/>
                </a:cubicBezTo>
                <a:cubicBezTo>
                  <a:pt x="667" y="840"/>
                  <a:pt x="941" y="46"/>
                  <a:pt x="1264" y="23"/>
                </a:cubicBezTo>
                <a:cubicBezTo>
                  <a:pt x="1587" y="0"/>
                  <a:pt x="2095" y="731"/>
                  <a:pt x="2394" y="938"/>
                </a:cubicBezTo>
                <a:cubicBezTo>
                  <a:pt x="2693" y="1145"/>
                  <a:pt x="2844" y="1194"/>
                  <a:pt x="3060" y="1267"/>
                </a:cubicBezTo>
                <a:cubicBezTo>
                  <a:pt x="3276" y="1340"/>
                  <a:pt x="3557" y="1356"/>
                  <a:pt x="3688" y="1379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19360" y="4689360"/>
            <a:ext cx="5391000" cy="1282680"/>
          </a:xfrm>
          <a:custGeom>
            <a:avLst/>
            <a:gdLst/>
            <a:ahLst/>
            <a:rect l="l" t="t" r="r" b="b"/>
            <a:pathLst>
              <a:path w="3396" h="944">
                <a:moveTo>
                  <a:pt x="0" y="944"/>
                </a:moveTo>
                <a:cubicBezTo>
                  <a:pt x="116" y="912"/>
                  <a:pt x="427" y="914"/>
                  <a:pt x="695" y="757"/>
                </a:cubicBezTo>
                <a:cubicBezTo>
                  <a:pt x="963" y="600"/>
                  <a:pt x="1284" y="4"/>
                  <a:pt x="1608" y="2"/>
                </a:cubicBezTo>
                <a:cubicBezTo>
                  <a:pt x="1932" y="0"/>
                  <a:pt x="2342" y="586"/>
                  <a:pt x="2640" y="743"/>
                </a:cubicBezTo>
                <a:cubicBezTo>
                  <a:pt x="2938" y="900"/>
                  <a:pt x="3239" y="902"/>
                  <a:pt x="3396" y="944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90760" y="2567160"/>
            <a:ext cx="2565360" cy="3417840"/>
          </a:xfrm>
          <a:custGeom>
            <a:avLst/>
            <a:gdLst/>
            <a:ahLst/>
            <a:rect l="l" t="t" r="r" b="b"/>
            <a:pathLst>
              <a:path w="1616" h="2511">
                <a:moveTo>
                  <a:pt x="0" y="0"/>
                </a:moveTo>
                <a:cubicBezTo>
                  <a:pt x="16" y="122"/>
                  <a:pt x="70" y="532"/>
                  <a:pt x="97" y="731"/>
                </a:cubicBezTo>
                <a:cubicBezTo>
                  <a:pt x="124" y="930"/>
                  <a:pt x="103" y="1002"/>
                  <a:pt x="165" y="1194"/>
                </a:cubicBezTo>
                <a:cubicBezTo>
                  <a:pt x="227" y="1386"/>
                  <a:pt x="324" y="1689"/>
                  <a:pt x="471" y="1883"/>
                </a:cubicBezTo>
                <a:cubicBezTo>
                  <a:pt x="618" y="2077"/>
                  <a:pt x="856" y="2256"/>
                  <a:pt x="1047" y="2361"/>
                </a:cubicBezTo>
                <a:cubicBezTo>
                  <a:pt x="1238" y="2466"/>
                  <a:pt x="1497" y="2480"/>
                  <a:pt x="1616" y="2511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348760" y="5950080"/>
                <a:ext cx="3016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940360" y="1268280"/>
            <a:ext cx="1800360" cy="935280"/>
          </a:xfrm>
          <a:prstGeom prst="bevel">
            <a:avLst>
              <a:gd name="adj" fmla="val 290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084720" y="1411200"/>
                <a:ext cx="1511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80000" y="1413000"/>
            <a:ext cx="194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观察频数与期望频差异的大小以     统计量衡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012000" y="2924280"/>
                <a:ext cx="10238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724360" y="2421000"/>
            <a:ext cx="2160720" cy="7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统计量服从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自由度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的分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3429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自由度为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3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的分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564000" y="3429000"/>
                <a:ext cx="2188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619280" y="2637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自由度为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1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的分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411280" y="2637000"/>
                <a:ext cx="21924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211640" y="4149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自由度为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10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的分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075280" y="4149720"/>
                <a:ext cx="2188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300720" y="501336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自由度为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0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的分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164360" y="5013360"/>
                <a:ext cx="2192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368960" y="1130400"/>
            <a:ext cx="99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寻找自由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4221000"/>
            <a:ext cx="3095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自由度是可以自由取值的数据个数。列联表中的行与列的总和是固定的。总有一行和一列的取值不是自由的。自由度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R-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C-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-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（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2-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03640" y="1557360"/>
          <a:ext cx="3024000" cy="2592360"/>
        </p:xfrm>
        <a:graphic>
          <a:graphicData uri="http://schemas.openxmlformats.org/drawingml/2006/table">
            <a:tbl>
              <a:tblPr/>
              <a:tblGrid>
                <a:gridCol w="636480"/>
                <a:gridCol w="876240"/>
                <a:gridCol w="795600"/>
                <a:gridCol w="71568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200" spc="-1" strike="noStrike" baseline="-10000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843280" y="1700280"/>
          <a:ext cx="3905280" cy="2806560"/>
        </p:xfrm>
        <a:graphic>
          <a:graphicData uri="http://schemas.openxmlformats.org/drawingml/2006/table">
            <a:tbl>
              <a:tblPr/>
              <a:tblGrid>
                <a:gridCol w="650880"/>
                <a:gridCol w="650880"/>
                <a:gridCol w="650880"/>
                <a:gridCol w="650880"/>
                <a:gridCol w="650880"/>
                <a:gridCol w="65088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赞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2987640" y="1341360"/>
            <a:ext cx="36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关于改革方案调查结果样本数据列联表的自由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0560" y="494172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由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780000" y="4941720"/>
                <a:ext cx="24476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7740720" y="0"/>
            <a:ext cx="1403280" cy="189000"/>
          </a:xfrm>
          <a:prstGeom prst="bevel">
            <a:avLst>
              <a:gd name="adj" fmla="val 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列联表中的卡方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08:16:45Z</dcterms:created>
  <dc:creator>a</dc:creator>
  <dc:description/>
  <dc:language>en-US</dc:language>
  <cp:lastModifiedBy>a</cp:lastModifiedBy>
  <dcterms:modified xsi:type="dcterms:W3CDTF">2005-09-20T07:33:58Z</dcterms:modified>
  <cp:revision>29</cp:revision>
  <dc:subject/>
  <dc:title>幻灯片 1</dc:title>
</cp:coreProperties>
</file>