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ED3-CE63-47D7-92B2-8B41EFE4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BA0-C357-4ABE-9C92-9FF9DFBE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9BB-D027-4B55-B730-359C3B38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70D-3567-4C00-8DC0-FC3E27B5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B10-AF10-456A-8E6B-29D0AC11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23C-CDE3-4A41-8C3E-A73CF84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F3F-1A81-48D3-A464-75A9301F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93C7-CB3A-4046-A3C5-BF73DD8C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E9D7-DAAB-4266-8840-1A86EF3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F13B-64B9-47B3-BAE3-B529184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85A5-5A31-4E7C-9B1E-6A47B5A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EBA-2FD7-4678-B915-C57BD672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7143-1197-45FA-918A-068345A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4E92-B28B-4352-8AB0-E4DAFA0D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4086-C385-407E-B9DC-048A51CE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8811-B378-45DE-BA6A-69052664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76E-2095-4046-BBC8-383E4FD0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D55C-AB09-46E1-B2B2-AF83BD74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C480-760B-4B1B-8854-43257F4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A77B-11B4-41C1-9EC4-921C7F1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8FA6-3BF5-4624-B69E-36D5ACF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BB09-1ACA-42A8-AB68-45BE80D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EFF-FD04-4AF5-91EC-6A0B049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B1AB-5DB0-43DA-A957-BBFFCF1D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F2EE-F7CB-4D9F-AE27-362A073E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0A3A-3574-47B7-A825-A9FF9BB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E13B-5396-4711-90B3-7CFE75D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7E98-DC4A-4F06-8C2D-D9256CA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1C2C-8AD0-4840-B975-A1F62CF8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1C45-8EBC-485F-8CBD-879FB67D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84D8-7F7E-41CD-A887-2B5D6357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B155-F33D-4475-8A9C-4C1912A6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75A2-0704-4129-BCD2-E77C7455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95A-1ACD-4729-826B-22F7387A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7C36-65B7-4974-8B3B-77CE42B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4274-3ECD-4988-91EF-46A5760E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EE90-5603-4636-BB0D-41A0A9A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793C-AA55-42ED-802C-D042AA9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D573-8DE6-4966-8543-B502898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13C8-C061-41CA-9FAB-E635B970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A3F6-BE62-4611-A7E7-865D5C6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ABFC-D341-4758-A813-19707C39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317F-01B2-4A89-AFFB-9390F534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7D8D-CFFA-4514-B298-DDFB23D4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5F8-6F5B-4C7E-B479-8F66413B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DA021-0018-4361-A08A-65FE8870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8ACF-3D51-4E4F-A6B7-934DDC8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F6756-4499-4FCD-AAA8-8BD9CFC6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DC80-22A3-4B1A-8EE2-3BE39120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6D4F-D8F2-43CD-9784-F5007EF0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D7E2-8F29-422C-B135-131862B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9326-A7A1-4CBE-B2F7-D7550F9A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C490-D4C6-41BC-BA29-75F1D616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1883-71CE-4D6B-9CA6-AB75E44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ED6C-F414-4F6C-93ED-98B55A85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BB0-03B0-498B-AF33-10EABC3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B712-16CD-420E-9077-C7DF0A2B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5682-C1A4-49F7-B0E1-142714B1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69A4-F064-4F8E-A384-2CB2CA1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5135C-E7AA-4523-B398-C111223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8D5A-02BC-414D-9C7B-97675AB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6D76E-9D9D-4B93-AE37-7649896D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2C288-4E88-4A8F-A346-6F2C288C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F537B-6C93-45D7-9701-3FFC8FE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7EF33-B106-4E0B-9358-6027CC40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1F3DF-1173-4EA9-89E9-A40BEE8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181-A5B5-48AF-BFD3-0252F25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82C8-0331-4796-BE48-93D0F9B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5FFAC-3EC7-46AB-8508-22C23FB0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09801-4A40-4623-8C65-0B2063DA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254-8ED9-4684-A10B-517620C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61B-8E8D-4DBC-B086-0E3FC679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B4D9-33CF-486F-8613-1D6D218B95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9C99-3CDB-4040-8989-5CFC047A597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1F77-3D5B-475A-B046-BB4B32761AC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C825-62F0-43E2-B640-BB79F52655D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6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FDAF-C676-4543-BF08-F90FFBBF2589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2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4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D68A-8772-4C6A-8C65-0C03F68B7C47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op.pcpop.com/upimg2/2004/5/11/18187268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b9f385"/>
                </a:solidFill>
                <a:latin typeface="隶书"/>
                <a:ea typeface="隶书"/>
              </a:rPr>
              <a:t>蠓虫的分类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b9f385"/>
                </a:solidFill>
                <a:latin typeface="隶书"/>
                <a:ea typeface="隶书"/>
              </a:rPr>
              <a:t>姜正禄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0" y="2057400"/>
            <a:ext cx="304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315320" y="6021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27280" y="2276640"/>
            <a:ext cx="432000" cy="482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27280" y="3573360"/>
            <a:ext cx="432000" cy="482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27280" y="4941720"/>
            <a:ext cx="432000" cy="482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32720" y="3573360"/>
            <a:ext cx="431640" cy="482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3" idx="2"/>
            <a:endCxn id="444" idx="2"/>
          </p:cNvCxnSpPr>
          <p:nvPr/>
        </p:nvCxnSpPr>
        <p:spPr>
          <a:xfrm flipH="1" flipV="1" rot="10800000">
            <a:off x="2626200" y="2516760"/>
            <a:ext cx="2520" cy="1297800"/>
          </a:xfrm>
          <a:prstGeom prst="curvedConnector5">
            <a:avLst>
              <a:gd name="adj1" fmla="val -49200000"/>
              <a:gd name="adj2" fmla="val 50000"/>
              <a:gd name="adj3" fmla="val -49200000"/>
            </a:avLst>
          </a:prstGeom>
          <a:ln w="73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5" idx="2"/>
            <a:endCxn id="444" idx="2"/>
          </p:cNvCxnSpPr>
          <p:nvPr/>
        </p:nvCxnSpPr>
        <p:spPr>
          <a:xfrm flipH="1" rot="10800000">
            <a:off x="2626200" y="3814200"/>
            <a:ext cx="2520" cy="1369080"/>
          </a:xfrm>
          <a:prstGeom prst="curvedConnector5">
            <a:avLst>
              <a:gd name="adj1" fmla="val -48000000"/>
              <a:gd name="adj2" fmla="val 50000"/>
              <a:gd name="adj3" fmla="val -48000000"/>
            </a:avLst>
          </a:prstGeom>
          <a:ln w="7308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3" idx="6"/>
            <a:endCxn id="444" idx="6"/>
          </p:cNvCxnSpPr>
          <p:nvPr/>
        </p:nvCxnSpPr>
        <p:spPr>
          <a:xfrm>
            <a:off x="3059280" y="2517480"/>
            <a:ext cx="2160" cy="1297800"/>
          </a:xfrm>
          <a:prstGeom prst="curvedConnector5">
            <a:avLst>
              <a:gd name="adj1" fmla="val 55200000"/>
              <a:gd name="adj2" fmla="val 50000"/>
              <a:gd name="adj3" fmla="val 55200000"/>
            </a:avLst>
          </a:prstGeom>
          <a:ln w="73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5" idx="6"/>
            <a:endCxn id="444" idx="6"/>
          </p:cNvCxnSpPr>
          <p:nvPr/>
        </p:nvCxnSpPr>
        <p:spPr>
          <a:xfrm flipV="1">
            <a:off x="3059280" y="3814200"/>
            <a:ext cx="2160" cy="1369080"/>
          </a:xfrm>
          <a:prstGeom prst="curvedConnector5">
            <a:avLst>
              <a:gd name="adj1" fmla="val 60000000"/>
              <a:gd name="adj2" fmla="val 50000"/>
              <a:gd name="adj3" fmla="val 60000000"/>
            </a:avLst>
          </a:prstGeom>
          <a:ln w="7308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43" idx="6"/>
            <a:endCxn id="446" idx="0"/>
          </p:cNvCxnSpPr>
          <p:nvPr/>
        </p:nvCxnSpPr>
        <p:spPr>
          <a:xfrm>
            <a:off x="3058920" y="2517840"/>
            <a:ext cx="3889800" cy="1056240"/>
          </a:xfrm>
          <a:prstGeom prst="curvedConnector2">
            <a:avLst/>
          </a:prstGeom>
          <a:ln w="7308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5" idx="6"/>
            <a:endCxn id="446" idx="4"/>
          </p:cNvCxnSpPr>
          <p:nvPr/>
        </p:nvCxnSpPr>
        <p:spPr>
          <a:xfrm flipV="1">
            <a:off x="3058920" y="4055400"/>
            <a:ext cx="3889800" cy="1127880"/>
          </a:xfrm>
          <a:prstGeom prst="curvedConnector2">
            <a:avLst/>
          </a:prstGeom>
          <a:ln w="7308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46" idx="2"/>
            <a:endCxn id="444" idx="6"/>
          </p:cNvCxnSpPr>
          <p:nvPr/>
        </p:nvCxnSpPr>
        <p:spPr>
          <a:xfrm rot="10800000">
            <a:off x="3058560" y="3814200"/>
            <a:ext cx="3674160" cy="1080"/>
          </a:xfrm>
          <a:prstGeom prst="curvedConnector2">
            <a:avLst/>
          </a:prstGeom>
          <a:ln w="7308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700360" y="2349360"/>
                <a:ext cx="2286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771640" y="3645000"/>
                <a:ext cx="2286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2700360" y="5013360"/>
                <a:ext cx="2286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6804000" y="3716280"/>
                <a:ext cx="247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115640" y="1988640"/>
            <a:ext cx="7335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欧拉注意到，每个点如果有进去的边就必须有出来的边，从而每个点连接的边数必须有偶数个才能完成一笔画。图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每个点都连接着奇数条边，因此不可能一笔画出，这就说明不存在一次走遍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座桥，而每座桥只许通过一次的走法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755640" y="2421000"/>
            <a:ext cx="7920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欧拉对“七桥问题”的研究是图论研究的开始，同时也为拓扑学的研究提供了一个初等的例子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932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ahoma"/>
                <a:ea typeface="华文楷体"/>
              </a:rPr>
              <a:t>无向图的欧拉通路、欧拉图（即一笔画问题）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24000" y="263664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次且仅一次经过图中每条边并行遍图中每个顶点的通路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回路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,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称为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欧拉通路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或欧拉迹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欧拉回路或欧拉闭迹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存在欧拉回路的图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称为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欧拉图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宋体"/>
              </a:rPr>
              <a:t>蚂蚁比赛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-360" y="2133360"/>
            <a:ext cx="5219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甲、乙两只蚂蚁分别位于如右图中的结点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处，并设图中的边长度是相等的。甲、乙进行比赛，从它们所在的结点出发，走过图中的所有边最后到达结点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处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如果它们的速度相同，问谁先到达目的地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7164360" y="2637000"/>
            <a:ext cx="287280" cy="3124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67280" y="3716280"/>
            <a:ext cx="287280" cy="31284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9640" y="3716280"/>
            <a:ext cx="287640" cy="31284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72360" y="5229360"/>
            <a:ext cx="287280" cy="3124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028000" y="5229360"/>
            <a:ext cx="287280" cy="3124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68" idx="3"/>
            <a:endCxn id="469" idx="7"/>
          </p:cNvCxnSpPr>
          <p:nvPr/>
        </p:nvCxnSpPr>
        <p:spPr>
          <a:xfrm flipH="1">
            <a:off x="6111000" y="2903400"/>
            <a:ext cx="1096200" cy="8596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8" idx="4"/>
            <a:endCxn id="471" idx="7"/>
          </p:cNvCxnSpPr>
          <p:nvPr/>
        </p:nvCxnSpPr>
        <p:spPr>
          <a:xfrm flipH="1">
            <a:off x="6616440" y="2949120"/>
            <a:ext cx="692640" cy="23266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68" idx="4"/>
            <a:endCxn id="472" idx="1"/>
          </p:cNvCxnSpPr>
          <p:nvPr/>
        </p:nvCxnSpPr>
        <p:spPr>
          <a:xfrm>
            <a:off x="7308360" y="2949120"/>
            <a:ext cx="762840" cy="23266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8" idx="5"/>
            <a:endCxn id="470" idx="1"/>
          </p:cNvCxnSpPr>
          <p:nvPr/>
        </p:nvCxnSpPr>
        <p:spPr>
          <a:xfrm>
            <a:off x="7408800" y="2903400"/>
            <a:ext cx="1094400" cy="8596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9" idx="5"/>
            <a:endCxn id="471" idx="0"/>
          </p:cNvCxnSpPr>
          <p:nvPr/>
        </p:nvCxnSpPr>
        <p:spPr>
          <a:xfrm>
            <a:off x="6111360" y="3983040"/>
            <a:ext cx="405720" cy="12466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2" idx="1"/>
            <a:endCxn id="469" idx="6"/>
          </p:cNvCxnSpPr>
          <p:nvPr/>
        </p:nvCxnSpPr>
        <p:spPr>
          <a:xfrm flipH="1" flipV="1">
            <a:off x="6153840" y="3873240"/>
            <a:ext cx="1917000" cy="1402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2"/>
            <a:endCxn id="471" idx="6"/>
          </p:cNvCxnSpPr>
          <p:nvPr/>
        </p:nvCxnSpPr>
        <p:spPr>
          <a:xfrm flipH="1">
            <a:off x="6658920" y="5385960"/>
            <a:ext cx="136908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endCxn id="471" idx="7"/>
          </p:cNvCxnSpPr>
          <p:nvPr/>
        </p:nvCxnSpPr>
        <p:spPr>
          <a:xfrm flipH="1">
            <a:off x="6616440" y="3860640"/>
            <a:ext cx="1845360" cy="14155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0" idx="3"/>
            <a:endCxn id="472" idx="0"/>
          </p:cNvCxnSpPr>
          <p:nvPr/>
        </p:nvCxnSpPr>
        <p:spPr>
          <a:xfrm flipH="1">
            <a:off x="8171640" y="3983040"/>
            <a:ext cx="330840" cy="12466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8710200" y="35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71840" y="2035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7480" y="3330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7324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57240" y="37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ahoma"/>
              </a:rPr>
              <a:t>哈密顿图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345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把右图中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个点用一笔连起来，只能用竖直或水平线连结相邻的两点，不能出现交叉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能否做到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242100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数学模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数学模型是架于数学与实际问题之间的桥梁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在数学发展的进程中无时无刻不留下数学模型的印记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三</a:t>
            </a:r>
            <a:r>
              <a:rPr b="0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.  </a:t>
            </a:r>
            <a:r>
              <a:rPr b="0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数学模型的特征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914480"/>
            <a:ext cx="79786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实践性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有实际背景，有针对性。接受实践的检验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应用性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注意实际问题的要求。强调模型的实用价值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综合性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数学知识的综合。模型的综合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四</a:t>
            </a: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. </a:t>
            </a: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模型与数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隶书"/>
              </a:rPr>
              <a:t>问题的叙述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：原始、粗糙、不规范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隶书"/>
              </a:rPr>
              <a:t>问题的假设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：问题的研究手段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隶书"/>
              </a:rPr>
              <a:t>问题的分析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：正确的推理，对实际的理解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隶书"/>
              </a:rPr>
              <a:t>问题的标准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：接受实践的检验、与实际差异不大或为解决实际问题给出可信的解答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隶书"/>
              </a:rPr>
              <a:t>问题的答案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：不确定、不封闭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五</a:t>
            </a: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. </a:t>
            </a: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建模过程流程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1916280"/>
            <a:ext cx="230364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抽象化简、假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40360" y="1197000"/>
            <a:ext cx="14414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际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40360" y="2637000"/>
            <a:ext cx="144144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参数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40360" y="3357720"/>
            <a:ext cx="144144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组建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40360" y="4076640"/>
            <a:ext cx="14414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参数估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40360" y="4797360"/>
            <a:ext cx="14414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运行检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08000" y="5661000"/>
            <a:ext cx="14418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应  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8" idx="2"/>
            <a:endCxn id="497" idx="0"/>
          </p:cNvCxnSpPr>
          <p:nvPr/>
        </p:nvCxnSpPr>
        <p:spPr>
          <a:xfrm>
            <a:off x="4860720" y="1773000"/>
            <a:ext cx="108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7" idx="2"/>
            <a:endCxn id="499" idx="0"/>
          </p:cNvCxnSpPr>
          <p:nvPr/>
        </p:nvCxnSpPr>
        <p:spPr>
          <a:xfrm>
            <a:off x="4860720" y="2492280"/>
            <a:ext cx="1080" cy="145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9" idx="2"/>
            <a:endCxn id="500" idx="0"/>
          </p:cNvCxnSpPr>
          <p:nvPr/>
        </p:nvCxnSpPr>
        <p:spPr>
          <a:xfrm>
            <a:off x="4860720" y="3213000"/>
            <a:ext cx="1080" cy="145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500" idx="2"/>
            <a:endCxn id="501" idx="0"/>
          </p:cNvCxnSpPr>
          <p:nvPr/>
        </p:nvCxnSpPr>
        <p:spPr>
          <a:xfrm>
            <a:off x="4860720" y="3933360"/>
            <a:ext cx="108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1" idx="2"/>
            <a:endCxn id="502" idx="0"/>
          </p:cNvCxnSpPr>
          <p:nvPr/>
        </p:nvCxnSpPr>
        <p:spPr>
          <a:xfrm>
            <a:off x="4860720" y="4652640"/>
            <a:ext cx="1080" cy="144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2" idx="2"/>
            <a:endCxn id="510" idx="0"/>
          </p:cNvCxnSpPr>
          <p:nvPr/>
        </p:nvCxnSpPr>
        <p:spPr>
          <a:xfrm flipH="1">
            <a:off x="4847760" y="5373720"/>
            <a:ext cx="1368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0" name=""/>
          <p:cNvSpPr/>
          <p:nvPr/>
        </p:nvSpPr>
        <p:spPr>
          <a:xfrm>
            <a:off x="4067280" y="5589720"/>
            <a:ext cx="1562040" cy="718920"/>
          </a:xfrm>
          <a:prstGeom prst="hexagon">
            <a:avLst>
              <a:gd name="adj" fmla="val 5431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符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10" idx="1"/>
            <a:endCxn id="503" idx="3"/>
          </p:cNvCxnSpPr>
          <p:nvPr/>
        </p:nvCxnSpPr>
        <p:spPr>
          <a:xfrm flipH="1">
            <a:off x="3349440" y="5949720"/>
            <a:ext cx="717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4859280" y="1844640"/>
            <a:ext cx="2592360" cy="4105440"/>
          </a:xfrm>
          <a:custGeom>
            <a:avLst/>
            <a:gdLst/>
            <a:ahLst/>
            <a:rect l="l" t="t" r="r" b="b"/>
            <a:pathLst>
              <a:path w="1407" h="2540">
                <a:moveTo>
                  <a:pt x="0" y="0"/>
                </a:moveTo>
                <a:lnTo>
                  <a:pt x="1407" y="0"/>
                </a:lnTo>
                <a:lnTo>
                  <a:pt x="1407" y="2540"/>
                </a:lnTo>
                <a:lnTo>
                  <a:pt x="409" y="254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一</a:t>
            </a: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模    型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94920" y="1915920"/>
            <a:ext cx="8280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隶书"/>
              </a:rPr>
              <a:t>为了一定的</a:t>
            </a: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目的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隶书"/>
              </a:rPr>
              <a:t>，人们对</a:t>
            </a: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原型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隶书"/>
              </a:rPr>
              <a:t>的一个</a:t>
            </a: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抽象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521160" y="4437000"/>
            <a:ext cx="56228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476280"/>
            <a:ext cx="77929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六</a:t>
            </a: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.</a:t>
            </a:r>
            <a:r>
              <a:rPr b="0" lang="zh-CN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蠓虫的分类模型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ahoma"/>
              </a:rPr>
              <a:t>问题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生物学家根据翅膀和触角长度的差异把蠓虫区分成两类，分别记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已测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有关数据。如图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⊙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蠓虫，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·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蠓虫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依据这些数据，制定一种方法去区分这两类蠓虫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现有触角及翼长分别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2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8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，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2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8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，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4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的三个标本，要求用所给的方法加以区分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传粉益虫，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f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疾病的载体，分类方法是否需要修改，若需修改，如何改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33520" y="32004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rcRect l="0" t="0" r="769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476280"/>
            <a:ext cx="77929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问题的特征</a:t>
            </a:r>
            <a:r>
              <a:rPr b="0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--</a:t>
            </a:r>
            <a:r>
              <a:rPr b="0" lang="zh-CN" sz="4400" spc="-1" strike="noStrike">
                <a:solidFill>
                  <a:srgbClr val="3366ff"/>
                </a:solidFill>
                <a:latin typeface="Tahoma"/>
              </a:rPr>
              <a:t>数理统计的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要求根据某些已知变量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预报因子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)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，判断一个研究对象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好坏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归类等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)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气象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气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气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温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预报天气的好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医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血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血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肿瘤切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诊断肿瘤的良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恶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质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勘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探矿资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判断地段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无矿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类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头骨化石数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判断人类归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考古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瓷器的化学成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判断产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1341360"/>
            <a:ext cx="4356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ahoma"/>
              </a:rPr>
              <a:t>神经网络的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假设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826920" y="285264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851280" y="3068640"/>
                <a:ext cx="204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979640" y="4797360"/>
                <a:ext cx="1512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602280" y="234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900000" y="2276640"/>
                <a:ext cx="4636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1258920" y="234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群体中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635280" y="2349360"/>
                <a:ext cx="139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3780000" y="2348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已知样品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796000" y="2421000"/>
                <a:ext cx="156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5940360" y="220464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变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1000" y="299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979640" y="436572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3708360" y="42915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Af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群体的随机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00360" y="5299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一个分量表示触角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8000" y="4221000"/>
            <a:ext cx="475164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299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p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群体中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6000" y="345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164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95640" y="299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已知样品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84720" y="29235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变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80000" y="47232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Apf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群体的随机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580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二个分量表示翅膀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940360" y="3068640"/>
                <a:ext cx="239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340000" y="915840"/>
                <a:ext cx="65530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1042920" y="260280"/>
            <a:ext cx="7793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ahoma"/>
              </a:rPr>
              <a:t>数理统计的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假设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826920" y="285264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851280" y="3068640"/>
                <a:ext cx="204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979640" y="4797360"/>
                <a:ext cx="1512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02280" y="234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900000" y="2276640"/>
                <a:ext cx="4636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1258920" y="234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群体中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635280" y="2349360"/>
                <a:ext cx="139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3780000" y="2348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已知样品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796000" y="2421000"/>
                <a:ext cx="156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5940360" y="220464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变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1000" y="299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979640" y="436572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3708360" y="42915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Af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群体的随机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00360" y="5299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一个分量表示触角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08000" y="4221000"/>
            <a:ext cx="475164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32000" y="299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p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群体中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16000" y="345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164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95640" y="299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已知样品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84720" y="29235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变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47232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Apf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群体的随机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00360" y="580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二个分量表示翅膀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5940360" y="3068640"/>
                <a:ext cx="239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508720" y="260280"/>
                <a:ext cx="3114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7740720" y="1125360"/>
                <a:ext cx="796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6012000" y="112500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协方差矩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2599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均值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108080" y="3587760"/>
                <a:ext cx="20955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3203640" y="364392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服从一定的联合概率分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二元正态分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任给一个待定的样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计算均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计算欧氏距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4859280" y="194472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351080" y="907920"/>
            <a:ext cx="7792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欧氏距离分类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276720" y="2492280"/>
                <a:ext cx="3114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900000" y="3840120"/>
                <a:ext cx="7559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504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任给一个待定的样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计算均值向量和协方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计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lanobi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859280" y="194472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1351080" y="907920"/>
            <a:ext cx="7792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halanobis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距离分类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435640" y="2492280"/>
                <a:ext cx="1628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755640" y="3843360"/>
                <a:ext cx="7345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478520" y="20322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错分平均损失最小的区域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先验概率已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55640" y="4508640"/>
                <a:ext cx="946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Bayes</a:t>
            </a: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分类模型</a:t>
            </a: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(</a:t>
            </a: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第一种</a:t>
            </a: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6948360" y="357336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781360"/>
            <a:ext cx="3743280" cy="1633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16360" y="2781360"/>
            <a:ext cx="3779640" cy="1439640"/>
          </a:xfrm>
          <a:custGeom>
            <a:avLst/>
            <a:gdLst/>
            <a:ahLst/>
            <a:rect l="l" t="t" r="r" b="b"/>
            <a:pathLst>
              <a:path w="2381" h="907">
                <a:moveTo>
                  <a:pt x="0" y="892"/>
                </a:moveTo>
                <a:cubicBezTo>
                  <a:pt x="215" y="899"/>
                  <a:pt x="430" y="907"/>
                  <a:pt x="589" y="892"/>
                </a:cubicBezTo>
                <a:cubicBezTo>
                  <a:pt x="748" y="877"/>
                  <a:pt x="816" y="831"/>
                  <a:pt x="952" y="801"/>
                </a:cubicBezTo>
                <a:cubicBezTo>
                  <a:pt x="1088" y="771"/>
                  <a:pt x="1323" y="763"/>
                  <a:pt x="1406" y="710"/>
                </a:cubicBezTo>
                <a:cubicBezTo>
                  <a:pt x="1489" y="657"/>
                  <a:pt x="1383" y="536"/>
                  <a:pt x="1451" y="483"/>
                </a:cubicBezTo>
                <a:cubicBezTo>
                  <a:pt x="1519" y="430"/>
                  <a:pt x="1746" y="438"/>
                  <a:pt x="1814" y="393"/>
                </a:cubicBezTo>
                <a:cubicBezTo>
                  <a:pt x="1882" y="348"/>
                  <a:pt x="1806" y="271"/>
                  <a:pt x="1859" y="211"/>
                </a:cubicBezTo>
                <a:cubicBezTo>
                  <a:pt x="1912" y="151"/>
                  <a:pt x="2049" y="60"/>
                  <a:pt x="2132" y="30"/>
                </a:cubicBezTo>
                <a:cubicBezTo>
                  <a:pt x="2215" y="0"/>
                  <a:pt x="2335" y="30"/>
                  <a:pt x="2358" y="30"/>
                </a:cubicBezTo>
                <a:cubicBezTo>
                  <a:pt x="2381" y="30"/>
                  <a:pt x="2291" y="30"/>
                  <a:pt x="2268" y="3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067280" y="2924280"/>
                <a:ext cx="5000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5210280" y="3860640"/>
                <a:ext cx="666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114720" y="3633840"/>
                <a:ext cx="388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6012000" y="3068640"/>
                <a:ext cx="4158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2340000" y="29242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40000" y="3645000"/>
                <a:ext cx="333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5003640" y="2133720"/>
                <a:ext cx="1389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6372360" y="2276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/>
          <p:nvPr/>
        </p:nvCxnSpPr>
        <p:spPr>
          <a:xfrm flipV="1" rot="10800000">
            <a:off x="5876280" y="3847680"/>
            <a:ext cx="1072080" cy="208800"/>
          </a:xfrm>
          <a:prstGeom prst="curvedConnector5">
            <a:avLst>
              <a:gd name="adj1" fmla="val 49916"/>
              <a:gd name="adj2" fmla="val 49913"/>
              <a:gd name="adj3" fmla="val 49916"/>
            </a:avLst>
          </a:prstGeom>
          <a:ln w="255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606" name=""/>
          <p:cNvCxnSpPr/>
          <p:nvPr/>
        </p:nvCxnSpPr>
        <p:spPr>
          <a:xfrm rot="10800000">
            <a:off x="4566600" y="3118680"/>
            <a:ext cx="2381760" cy="729360"/>
          </a:xfrm>
          <a:prstGeom prst="curvedConnector5">
            <a:avLst>
              <a:gd name="adj1" fmla="val 49992"/>
              <a:gd name="adj2" fmla="val 49975"/>
              <a:gd name="adj3" fmla="val 49992"/>
            </a:avLst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547640" y="450756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表示属于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蠓虫被错分为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p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55640" y="4869000"/>
                <a:ext cx="946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1547640" y="486792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表示属于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p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蠓虫被错分为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36880" y="5228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表示错分平均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24000" y="5229360"/>
                <a:ext cx="13348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403280" y="5734080"/>
                <a:ext cx="59533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2411280" y="2592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表示属于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蠓虫被错分为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p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条件概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547640" y="260280"/>
                <a:ext cx="10018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547640" y="620640"/>
                <a:ext cx="1001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2411280" y="61956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表示属于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p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蠓虫被错分为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Af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条件概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042920" y="907920"/>
            <a:ext cx="7793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错分平均损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826920" y="2060640"/>
                <a:ext cx="59533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5076720" y="333360"/>
                <a:ext cx="3598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0" y="2781360"/>
                <a:ext cx="91440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059440" y="1125360"/>
                <a:ext cx="363528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0" y="3933720"/>
                <a:ext cx="914400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907920"/>
            <a:ext cx="7793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错分平均损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468360" y="2637000"/>
                <a:ext cx="83534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q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116000" y="3500280"/>
                <a:ext cx="53514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e0700"/>
                </a:solidFill>
                <a:latin typeface="Comic Sans MS"/>
              </a:rPr>
              <a:t>二</a:t>
            </a:r>
            <a:r>
              <a:rPr b="0" lang="zh-CN" sz="6000" spc="-1" strike="noStrike">
                <a:solidFill>
                  <a:srgbClr val="0e0700"/>
                </a:solidFill>
                <a:latin typeface="Comic Sans MS"/>
              </a:rPr>
              <a:t>. </a:t>
            </a:r>
            <a:r>
              <a:rPr b="0" lang="zh-CN" sz="6000" spc="-1" strike="noStrike">
                <a:solidFill>
                  <a:srgbClr val="0e0700"/>
                </a:solidFill>
                <a:latin typeface="Comic Sans MS"/>
              </a:rPr>
              <a:t>数 学 模 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775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9fd69"/>
                </a:solidFill>
                <a:latin typeface="Comic Sans MS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9fd69"/>
                </a:solidFill>
                <a:latin typeface="Comic Sans MS"/>
                <a:ea typeface="隶书"/>
              </a:rPr>
              <a:t>通过抽象和化简，使用数学语言，对</a:t>
            </a:r>
            <a:r>
              <a:rPr b="0" lang="zh-CN" sz="4800" spc="-1" strike="noStrike">
                <a:solidFill>
                  <a:srgbClr val="703dff"/>
                </a:solidFill>
                <a:latin typeface="Comic Sans MS"/>
                <a:ea typeface="隶书"/>
              </a:rPr>
              <a:t>实际问题</a:t>
            </a:r>
            <a:r>
              <a:rPr b="0" lang="zh-CN" sz="4800" spc="-1" strike="noStrike">
                <a:solidFill>
                  <a:srgbClr val="f9fd69"/>
                </a:solidFill>
                <a:latin typeface="Comic Sans MS"/>
                <a:ea typeface="隶书"/>
              </a:rPr>
              <a:t>的一个</a:t>
            </a:r>
            <a:r>
              <a:rPr b="0" lang="zh-CN" sz="4800" spc="-1" strike="noStrike">
                <a:solidFill>
                  <a:srgbClr val="703dff"/>
                </a:solidFill>
                <a:latin typeface="Comic Sans MS"/>
                <a:ea typeface="隶书"/>
              </a:rPr>
              <a:t>近似描述</a:t>
            </a:r>
            <a:r>
              <a:rPr b="0" lang="zh-CN" sz="4800" spc="-1" strike="noStrike">
                <a:solidFill>
                  <a:srgbClr val="f9fd69"/>
                </a:solidFill>
                <a:latin typeface="Comic Sans MS"/>
                <a:ea typeface="隶书"/>
              </a:rPr>
              <a:t>，以便于人们</a:t>
            </a:r>
            <a:r>
              <a:rPr b="0" lang="zh-CN" sz="4800" spc="-1" strike="noStrike">
                <a:solidFill>
                  <a:srgbClr val="703dff"/>
                </a:solidFill>
                <a:latin typeface="Comic Sans MS"/>
                <a:ea typeface="隶书"/>
              </a:rPr>
              <a:t>更深刻</a:t>
            </a:r>
            <a:r>
              <a:rPr b="0" lang="zh-CN" sz="4800" spc="-1" strike="noStrike">
                <a:solidFill>
                  <a:srgbClr val="f9fd69"/>
                </a:solidFill>
                <a:latin typeface="Comic Sans MS"/>
                <a:ea typeface="隶书"/>
              </a:rPr>
              <a:t>地认识所研究的对象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478520" y="20322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最大错分损失最小的区域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先验概率未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Bayes</a:t>
            </a: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分类模型</a:t>
            </a: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(</a:t>
            </a: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第二种</a:t>
            </a: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084720" y="198900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2412720" y="4507560"/>
            <a:ext cx="45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选择一个方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使得不同分类在该方向上的投影具有不同分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979640" y="4941720"/>
                <a:ext cx="648324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2916360" y="2781360"/>
            <a:ext cx="3743280" cy="165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276720" y="3357720"/>
            <a:ext cx="251928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6732720" y="3213000"/>
                <a:ext cx="2411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9" name=""/>
          <p:cNvCxnSpPr>
            <a:endCxn id="637" idx="0"/>
          </p:cNvCxnSpPr>
          <p:nvPr/>
        </p:nvCxnSpPr>
        <p:spPr>
          <a:xfrm flipH="1" flipV="1">
            <a:off x="5795640" y="3357000"/>
            <a:ext cx="937440" cy="1465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640" name=""/>
          <p:cNvSpPr/>
          <p:nvPr/>
        </p:nvSpPr>
        <p:spPr>
          <a:xfrm flipV="1">
            <a:off x="3780000" y="2997360"/>
            <a:ext cx="1079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endCxn id="640" idx="0"/>
          </p:cNvCxnSpPr>
          <p:nvPr/>
        </p:nvCxnSpPr>
        <p:spPr>
          <a:xfrm flipV="1" rot="10800000">
            <a:off x="4858560" y="2263320"/>
            <a:ext cx="1226160" cy="73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932360" y="333360"/>
                <a:ext cx="394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9640" y="3284640"/>
                <a:ext cx="2198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44" name=""/>
          <p:cNvCxnSpPr>
            <a:endCxn id="640" idx="0"/>
          </p:cNvCxnSpPr>
          <p:nvPr/>
        </p:nvCxnSpPr>
        <p:spPr>
          <a:xfrm>
            <a:off x="2738160" y="3503520"/>
            <a:ext cx="1042200" cy="357840"/>
          </a:xfrm>
          <a:prstGeom prst="curvedConnector5">
            <a:avLst>
              <a:gd name="adj1" fmla="val 1796"/>
              <a:gd name="adj2" fmla="val -11278"/>
              <a:gd name="adj3" fmla="val 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856800" y="494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随机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19640" y="2781360"/>
            <a:ext cx="2484360" cy="1655640"/>
          </a:xfrm>
          <a:custGeom>
            <a:avLst/>
            <a:gdLst/>
            <a:ahLst/>
            <a:rect l="l" t="t" r="r" b="b"/>
            <a:pathLst>
              <a:path w="1610" h="998">
                <a:moveTo>
                  <a:pt x="0" y="998"/>
                </a:moveTo>
                <a:cubicBezTo>
                  <a:pt x="287" y="971"/>
                  <a:pt x="575" y="945"/>
                  <a:pt x="726" y="862"/>
                </a:cubicBezTo>
                <a:cubicBezTo>
                  <a:pt x="877" y="779"/>
                  <a:pt x="779" y="612"/>
                  <a:pt x="907" y="499"/>
                </a:cubicBezTo>
                <a:cubicBezTo>
                  <a:pt x="1035" y="386"/>
                  <a:pt x="1384" y="264"/>
                  <a:pt x="1497" y="181"/>
                </a:cubicBezTo>
                <a:cubicBezTo>
                  <a:pt x="1610" y="98"/>
                  <a:pt x="1572" y="30"/>
                  <a:pt x="1587" y="0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5445000"/>
                <a:ext cx="42800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618080" y="5373720"/>
                <a:ext cx="4525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Apf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395280" y="333360"/>
                <a:ext cx="4397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0" y="5445000"/>
            <a:ext cx="4249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3280" y="5445000"/>
            <a:ext cx="4500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443640" y="1268280"/>
                <a:ext cx="2003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47000" y="2215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错分损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372360" y="126828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116000" y="5734080"/>
                <a:ext cx="394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116000" y="2205000"/>
                <a:ext cx="12747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042920" y="4869000"/>
                <a:ext cx="4397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294280" y="22039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843280" y="2133720"/>
                <a:ext cx="2582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826920" y="278136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747000" y="335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938160" y="3357720"/>
                <a:ext cx="1486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p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2268360" y="34279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898720" y="3357720"/>
                <a:ext cx="2617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826920" y="3933720"/>
                <a:ext cx="2900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错分损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0" y="26028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2843280" y="5516640"/>
                <a:ext cx="394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164360" y="1125360"/>
                <a:ext cx="12747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6491160" y="17002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700360" y="2133720"/>
                <a:ext cx="1485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403280" y="2708280"/>
                <a:ext cx="2900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4500720" y="4005360"/>
            <a:ext cx="39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372360" y="206028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59280" y="2276640"/>
            <a:ext cx="4033800" cy="1608120"/>
          </a:xfrm>
          <a:custGeom>
            <a:avLst/>
            <a:gdLst/>
            <a:ahLst/>
            <a:rect l="l" t="t" r="r" b="b"/>
            <a:pathLst>
              <a:path w="2541" h="1013">
                <a:moveTo>
                  <a:pt x="0" y="998"/>
                </a:moveTo>
                <a:cubicBezTo>
                  <a:pt x="117" y="1005"/>
                  <a:pt x="234" y="1013"/>
                  <a:pt x="363" y="998"/>
                </a:cubicBezTo>
                <a:cubicBezTo>
                  <a:pt x="492" y="983"/>
                  <a:pt x="651" y="960"/>
                  <a:pt x="772" y="907"/>
                </a:cubicBezTo>
                <a:cubicBezTo>
                  <a:pt x="893" y="854"/>
                  <a:pt x="961" y="809"/>
                  <a:pt x="1089" y="681"/>
                </a:cubicBezTo>
                <a:cubicBezTo>
                  <a:pt x="1217" y="553"/>
                  <a:pt x="1415" y="234"/>
                  <a:pt x="1543" y="136"/>
                </a:cubicBezTo>
                <a:cubicBezTo>
                  <a:pt x="1671" y="38"/>
                  <a:pt x="1747" y="0"/>
                  <a:pt x="1860" y="91"/>
                </a:cubicBezTo>
                <a:cubicBezTo>
                  <a:pt x="1973" y="182"/>
                  <a:pt x="2109" y="560"/>
                  <a:pt x="2223" y="681"/>
                </a:cubicBezTo>
                <a:cubicBezTo>
                  <a:pt x="2337" y="802"/>
                  <a:pt x="2481" y="794"/>
                  <a:pt x="2541" y="817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27640" y="2421000"/>
            <a:ext cx="4105080" cy="1452600"/>
          </a:xfrm>
          <a:custGeom>
            <a:avLst/>
            <a:gdLst/>
            <a:ahLst/>
            <a:rect l="l" t="t" r="r" b="b"/>
            <a:pathLst>
              <a:path w="2586" h="915">
                <a:moveTo>
                  <a:pt x="2586" y="915"/>
                </a:moveTo>
                <a:cubicBezTo>
                  <a:pt x="2404" y="907"/>
                  <a:pt x="2222" y="900"/>
                  <a:pt x="2041" y="870"/>
                </a:cubicBezTo>
                <a:cubicBezTo>
                  <a:pt x="1860" y="840"/>
                  <a:pt x="1678" y="832"/>
                  <a:pt x="1497" y="734"/>
                </a:cubicBezTo>
                <a:cubicBezTo>
                  <a:pt x="1316" y="636"/>
                  <a:pt x="1089" y="393"/>
                  <a:pt x="953" y="280"/>
                </a:cubicBezTo>
                <a:cubicBezTo>
                  <a:pt x="817" y="167"/>
                  <a:pt x="764" y="98"/>
                  <a:pt x="681" y="53"/>
                </a:cubicBezTo>
                <a:cubicBezTo>
                  <a:pt x="598" y="8"/>
                  <a:pt x="514" y="0"/>
                  <a:pt x="454" y="8"/>
                </a:cubicBezTo>
                <a:cubicBezTo>
                  <a:pt x="394" y="16"/>
                  <a:pt x="394" y="23"/>
                  <a:pt x="318" y="99"/>
                </a:cubicBezTo>
                <a:cubicBezTo>
                  <a:pt x="242" y="175"/>
                  <a:pt x="53" y="402"/>
                  <a:pt x="0" y="462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80360" y="4149720"/>
                <a:ext cx="884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716360" y="4149720"/>
                <a:ext cx="1201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7524720" y="1989000"/>
            <a:ext cx="0" cy="21607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19640" y="2060640"/>
            <a:ext cx="0" cy="216036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8515440" y="3828960"/>
                <a:ext cx="388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210360" y="1557360"/>
                <a:ext cx="425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6877080" y="2060640"/>
            <a:ext cx="0" cy="21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6659640" y="4076640"/>
                <a:ext cx="4968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687" name=""/>
          <p:cNvCxnSpPr>
            <a:endCxn id="678" idx="0"/>
          </p:cNvCxnSpPr>
          <p:nvPr/>
        </p:nvCxnSpPr>
        <p:spPr>
          <a:xfrm flipV="1">
            <a:off x="4303800" y="2433240"/>
            <a:ext cx="832320" cy="534240"/>
          </a:xfrm>
          <a:prstGeom prst="curvedConnector5">
            <a:avLst>
              <a:gd name="adj1" fmla="val 7442"/>
              <a:gd name="adj2" fmla="val 49966"/>
              <a:gd name="adj3" fmla="val 74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endCxn id="677" idx="0"/>
          </p:cNvCxnSpPr>
          <p:nvPr/>
        </p:nvCxnSpPr>
        <p:spPr>
          <a:xfrm rot="5400000">
            <a:off x="7431120" y="2093040"/>
            <a:ext cx="264240" cy="510480"/>
          </a:xfrm>
          <a:prstGeom prst="curvedConnector5">
            <a:avLst>
              <a:gd name="adj1" fmla="val 11323"/>
              <a:gd name="adj2" fmla="val 49964"/>
              <a:gd name="adj3" fmla="val 113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9" name=""/>
          <p:cNvSpPr/>
          <p:nvPr/>
        </p:nvSpPr>
        <p:spPr>
          <a:xfrm flipH="1">
            <a:off x="5363640" y="3645000"/>
            <a:ext cx="86364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795640" y="3573360"/>
            <a:ext cx="1081080" cy="43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6443640" y="3860640"/>
            <a:ext cx="433440" cy="14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0" y="3429000"/>
                <a:ext cx="4587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α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d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-27000" y="4508640"/>
                <a:ext cx="4643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α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d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556000" y="6165720"/>
                <a:ext cx="508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7164360" y="3716280"/>
            <a:ext cx="93672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77080" y="3789360"/>
            <a:ext cx="719280" cy="2160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2549520" y="476280"/>
                <a:ext cx="6594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50720" y="907920"/>
            <a:ext cx="3725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Fisher</a:t>
            </a: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分类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0920" y="1916280"/>
            <a:ext cx="8631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投影方向未知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，两个总体协方差矩阵任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确定投影方向，尽可能区分所有样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050920" y="3149640"/>
                <a:ext cx="1712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1963800" y="3789360"/>
                <a:ext cx="2863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2090880" y="4365720"/>
                <a:ext cx="30049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250920" y="3141720"/>
            <a:ext cx="1971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投影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4000" y="3789360"/>
            <a:ext cx="197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样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4000" y="436572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样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48360" y="3789360"/>
            <a:ext cx="26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样本均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48360" y="43657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样本均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7740720" y="3789360"/>
                <a:ext cx="706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7921800" y="4365720"/>
                <a:ext cx="777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4299120" y="4941720"/>
                <a:ext cx="48448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4500720" y="5589720"/>
                <a:ext cx="2122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4500720" y="6211800"/>
                <a:ext cx="2298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0" y="4941720"/>
            <a:ext cx="45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样本在投影方向上投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5589720"/>
            <a:ext cx="45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均值在投影方向上投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125360"/>
            <a:ext cx="1971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几何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50720" y="907920"/>
            <a:ext cx="3725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确定投影方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191628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确定投影方向，尽可能区分所有样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19640" y="2492280"/>
            <a:ext cx="197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尽可能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24000" y="2492280"/>
                <a:ext cx="29718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f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24000" y="3068640"/>
                <a:ext cx="6475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6804000" y="3357720"/>
            <a:ext cx="1971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尽可能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395280" y="4292640"/>
                <a:ext cx="11667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1763640" y="4581360"/>
            <a:ext cx="1971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尽可能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5003640" y="1125360"/>
                <a:ext cx="17132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148360" y="4653000"/>
                <a:ext cx="1712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370836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84360" y="5661000"/>
                <a:ext cx="7502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51080" y="981000"/>
            <a:ext cx="4805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华文隶书"/>
                <a:ea typeface="华文隶书"/>
              </a:rPr>
              <a:t>伪变量回归分类模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191628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视属于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f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或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pf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样品的取值为样品变量的线性函数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取值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的属于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f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，取值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的属于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f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08720" y="333360"/>
            <a:ext cx="3122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似最小二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124000" y="3357720"/>
                <a:ext cx="46339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8760" y="4365720"/>
                <a:ext cx="89852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900000" y="522936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先解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56000" y="522936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再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2268360" y="5300640"/>
                <a:ext cx="424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635280" y="5229360"/>
                <a:ext cx="102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351080" y="981000"/>
            <a:ext cx="4805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预报因子分类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0920" y="191628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均值差别不大，需选择预报因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通过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-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检验等方法，淘汰那些对判别无助的变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407664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统计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最大似然估计，假设检验等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476360" y="3716280"/>
            <a:ext cx="865080" cy="57636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00360" y="2133720"/>
            <a:ext cx="600120" cy="6001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00360" y="5373720"/>
            <a:ext cx="600120" cy="60012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08720" y="2133720"/>
            <a:ext cx="576000" cy="60156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08720" y="5300640"/>
            <a:ext cx="600120" cy="673200"/>
          </a:xfrm>
          <a:prstGeom prst="flowChartConnec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56360" y="3789360"/>
            <a:ext cx="1008000" cy="673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50720" y="90792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神经网络分类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791" name=""/>
          <p:cNvCxnSpPr>
            <a:stCxn id="784" idx="0"/>
            <a:endCxn id="785" idx="2"/>
          </p:cNvCxnSpPr>
          <p:nvPr/>
        </p:nvCxnSpPr>
        <p:spPr>
          <a:xfrm flipV="1">
            <a:off x="1909800" y="2432880"/>
            <a:ext cx="791280" cy="12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88" idx="1"/>
            <a:endCxn id="784" idx="5"/>
          </p:cNvCxnSpPr>
          <p:nvPr/>
        </p:nvCxnSpPr>
        <p:spPr>
          <a:xfrm flipH="1" flipV="1">
            <a:off x="2214360" y="4207680"/>
            <a:ext cx="3381840" cy="11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86" idx="2"/>
            <a:endCxn id="784" idx="4"/>
          </p:cNvCxnSpPr>
          <p:nvPr/>
        </p:nvCxnSpPr>
        <p:spPr>
          <a:xfrm flipH="1" flipV="1">
            <a:off x="1909440" y="4292280"/>
            <a:ext cx="791280" cy="13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86" idx="6"/>
            <a:endCxn id="789" idx="2"/>
          </p:cNvCxnSpPr>
          <p:nvPr/>
        </p:nvCxnSpPr>
        <p:spPr>
          <a:xfrm flipV="1">
            <a:off x="3300120" y="4125240"/>
            <a:ext cx="2856600" cy="15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0"/>
            <a:endCxn id="796" idx="5"/>
          </p:cNvCxnSpPr>
          <p:nvPr/>
        </p:nvCxnSpPr>
        <p:spPr>
          <a:xfrm flipH="1" flipV="1">
            <a:off x="4568400" y="4218840"/>
            <a:ext cx="12405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96" idx="1"/>
            <a:endCxn id="785" idx="5"/>
          </p:cNvCxnSpPr>
          <p:nvPr/>
        </p:nvCxnSpPr>
        <p:spPr>
          <a:xfrm flipH="1" flipV="1">
            <a:off x="3213000" y="2645640"/>
            <a:ext cx="64332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"/>
          <p:cNvCxnSpPr>
            <a:stCxn id="786" idx="0"/>
            <a:endCxn id="796" idx="3"/>
          </p:cNvCxnSpPr>
          <p:nvPr/>
        </p:nvCxnSpPr>
        <p:spPr>
          <a:xfrm flipV="1">
            <a:off x="2999880" y="4219200"/>
            <a:ext cx="856440" cy="11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89" idx="0"/>
            <a:endCxn id="787" idx="5"/>
          </p:cNvCxnSpPr>
          <p:nvPr/>
        </p:nvCxnSpPr>
        <p:spPr>
          <a:xfrm flipH="1" flipV="1">
            <a:off x="6000840" y="2647080"/>
            <a:ext cx="660600" cy="114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788" idx="6"/>
            <a:endCxn id="789" idx="3"/>
          </p:cNvCxnSpPr>
          <p:nvPr/>
        </p:nvCxnSpPr>
        <p:spPr>
          <a:xfrm flipV="1">
            <a:off x="6108840" y="4363200"/>
            <a:ext cx="195840" cy="12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692360" y="3789360"/>
                <a:ext cx="507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843280" y="2205000"/>
                <a:ext cx="333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916360" y="5445000"/>
                <a:ext cx="234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5627520" y="2205000"/>
                <a:ext cx="381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651640" y="5445000"/>
                <a:ext cx="276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6516720" y="3933720"/>
                <a:ext cx="426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1692360" y="2852640"/>
                <a:ext cx="536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0" y="45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260280"/>
            <a:ext cx="4356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ahoma"/>
              </a:rPr>
              <a:t>神经网络的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08360" y="3645000"/>
            <a:ext cx="1008000" cy="6728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0" name=""/>
          <p:cNvCxnSpPr>
            <a:stCxn id="784" idx="6"/>
            <a:endCxn id="787" idx="4"/>
          </p:cNvCxnSpPr>
          <p:nvPr/>
        </p:nvCxnSpPr>
        <p:spPr>
          <a:xfrm flipV="1">
            <a:off x="2341440" y="2734920"/>
            <a:ext cx="345672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796" idx="7"/>
            <a:endCxn id="787" idx="4"/>
          </p:cNvCxnSpPr>
          <p:nvPr/>
        </p:nvCxnSpPr>
        <p:spPr>
          <a:xfrm flipV="1">
            <a:off x="4568400" y="2734920"/>
            <a:ext cx="12294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789" idx="0"/>
            <a:endCxn id="785" idx="6"/>
          </p:cNvCxnSpPr>
          <p:nvPr/>
        </p:nvCxnSpPr>
        <p:spPr>
          <a:xfrm flipH="1" flipV="1">
            <a:off x="3299760" y="2433600"/>
            <a:ext cx="336132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3892680" y="3789360"/>
                <a:ext cx="571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771640" y="3213000"/>
                <a:ext cx="568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3419640" y="2708280"/>
                <a:ext cx="568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4916520" y="3284640"/>
                <a:ext cx="600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4140360" y="2349360"/>
                <a:ext cx="56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300720" y="2852640"/>
                <a:ext cx="600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6156360" y="4869000"/>
                <a:ext cx="60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08720" y="4724280"/>
                <a:ext cx="600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4788000" y="5084640"/>
                <a:ext cx="568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1835280" y="4869000"/>
                <a:ext cx="536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2700360" y="4653000"/>
                <a:ext cx="568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3708360" y="5359320"/>
                <a:ext cx="568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250920" y="19890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神经网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96360" y="2060640"/>
            <a:ext cx="194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输出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08720" y="378936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隐单元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67640" y="54450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输入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7932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问题的特征</a:t>
            </a:r>
            <a:r>
              <a:rPr b="0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--</a:t>
            </a:r>
            <a:r>
              <a:rPr b="0" lang="zh-CN" sz="4400" spc="-1" strike="noStrike">
                <a:solidFill>
                  <a:srgbClr val="3366ff"/>
                </a:solidFill>
                <a:latin typeface="Tahoma"/>
              </a:rPr>
              <a:t>神经网络的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模拟神经组织的基本特征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，计算神经元间的作用强度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判断一个研究对象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好坏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归类等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)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。神经组织的基本特征如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同的神经元间有不同的作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连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强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体内电位超过某一阀值时，该细胞才被激发，产生脉冲输出，否则就无输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神经元间的连接强度将随时间的变化而变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学习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假设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87280" y="1916280"/>
            <a:ext cx="7705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表示第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个神经元在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t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时刻的状态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物理量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当其取值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时，表示处于激发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当其取值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时，表示处于抑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3716280"/>
            <a:ext cx="766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表示时间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只取离散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任何两个相继时刻的间隔均为一个单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55680" y="1976400"/>
                <a:ext cx="825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900000" y="3860640"/>
                <a:ext cx="2224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1187280" y="494172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表示从第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个元到第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j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个元之间的连接强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它也称为权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是个实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11280" y="4941720"/>
                <a:ext cx="5079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84360" y="6093000"/>
                <a:ext cx="4442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1187280" y="6021360"/>
            <a:ext cx="7956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表示第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个元的阀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。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例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：牛顿定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7756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假设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物体为质点，忽略物体的大小和形状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没有阻力、摩擦力及其他外力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令</a:t>
            </a:r>
            <a:r>
              <a:rPr b="0" lang="en-US" sz="3600" spc="-1" strike="noStrike">
                <a:solidFill>
                  <a:srgbClr val="f9fd69"/>
                </a:solidFill>
                <a:latin typeface="隶书"/>
                <a:ea typeface="隶书"/>
              </a:rPr>
              <a:t>x(t)</a:t>
            </a: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表示在</a:t>
            </a:r>
            <a:r>
              <a:rPr b="0" lang="en-US" sz="3600" spc="-1" strike="noStrike">
                <a:solidFill>
                  <a:srgbClr val="f9fd69"/>
                </a:solidFill>
                <a:latin typeface="隶书"/>
                <a:ea typeface="隶书"/>
              </a:rPr>
              <a:t>t</a:t>
            </a: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时刻物体的位置</a:t>
            </a: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, </a:t>
            </a:r>
            <a:r>
              <a:rPr b="0" lang="zh-CN" sz="3600" spc="-1" strike="noStrike">
                <a:solidFill>
                  <a:srgbClr val="f9fd69"/>
                </a:solidFill>
                <a:latin typeface="隶书"/>
                <a:ea typeface="隶书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050920" y="4869000"/>
                <a:ext cx="3600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模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0920" y="1916280"/>
            <a:ext cx="180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M-P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2462040" y="1989000"/>
                <a:ext cx="44452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885080" y="5877000"/>
                <a:ext cx="507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446640" y="2813040"/>
                <a:ext cx="2761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250920" y="3933720"/>
            <a:ext cx="7488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推广模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将状态取值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[0,1]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中的连续值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1692360" y="4653000"/>
                <a:ext cx="5873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βx</m:t>
                            </m:r>
                          </m:sup>
                        </m:sSup>
                      </m:den>
                    </m:f>
                    <m:limUpp>
                      <m:e>
                        <m:r>
                          <m:t xml:space="preserve">→</m:t>
                        </m:r>
                      </m:e>
                      <m:lim>
                        <m:r>
                          <m:t xml:space="preserve">β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Upp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24000" y="5805360"/>
                <a:ext cx="4476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6156360" y="5805360"/>
            <a:ext cx="21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如何求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476360" y="3716280"/>
            <a:ext cx="865080" cy="57636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00360" y="2133720"/>
            <a:ext cx="600120" cy="6001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00360" y="5373720"/>
            <a:ext cx="600120" cy="60012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508720" y="2133720"/>
            <a:ext cx="576000" cy="60156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508720" y="5300640"/>
            <a:ext cx="600120" cy="673200"/>
          </a:xfrm>
          <a:prstGeom prst="flowChartConnec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56360" y="3789360"/>
            <a:ext cx="1008000" cy="673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350720" y="907920"/>
            <a:ext cx="7397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多层前传网络</a:t>
            </a: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(</a:t>
            </a: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第一步</a:t>
            </a: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cxnSp>
        <p:nvCxnSpPr>
          <p:cNvPr id="874" name=""/>
          <p:cNvCxnSpPr>
            <a:stCxn id="867" idx="0"/>
            <a:endCxn id="868" idx="2"/>
          </p:cNvCxnSpPr>
          <p:nvPr/>
        </p:nvCxnSpPr>
        <p:spPr>
          <a:xfrm flipV="1">
            <a:off x="1909800" y="2432880"/>
            <a:ext cx="791280" cy="12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71" idx="1"/>
            <a:endCxn id="867" idx="5"/>
          </p:cNvCxnSpPr>
          <p:nvPr/>
        </p:nvCxnSpPr>
        <p:spPr>
          <a:xfrm flipH="1" flipV="1">
            <a:off x="2214360" y="4207680"/>
            <a:ext cx="3381840" cy="11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9" idx="2"/>
            <a:endCxn id="867" idx="4"/>
          </p:cNvCxnSpPr>
          <p:nvPr/>
        </p:nvCxnSpPr>
        <p:spPr>
          <a:xfrm flipH="1" flipV="1">
            <a:off x="1909440" y="4292280"/>
            <a:ext cx="791280" cy="13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9" idx="6"/>
            <a:endCxn id="872" idx="2"/>
          </p:cNvCxnSpPr>
          <p:nvPr/>
        </p:nvCxnSpPr>
        <p:spPr>
          <a:xfrm flipV="1">
            <a:off x="3300120" y="4125240"/>
            <a:ext cx="2856600" cy="15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1" idx="0"/>
            <a:endCxn id="879" idx="5"/>
          </p:cNvCxnSpPr>
          <p:nvPr/>
        </p:nvCxnSpPr>
        <p:spPr>
          <a:xfrm flipH="1" flipV="1">
            <a:off x="4568400" y="4218840"/>
            <a:ext cx="12405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0" name=""/>
          <p:cNvCxnSpPr>
            <a:stCxn id="879" idx="1"/>
            <a:endCxn id="868" idx="5"/>
          </p:cNvCxnSpPr>
          <p:nvPr/>
        </p:nvCxnSpPr>
        <p:spPr>
          <a:xfrm flipH="1" flipV="1">
            <a:off x="3213000" y="2645640"/>
            <a:ext cx="64332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1" name=""/>
          <p:cNvCxnSpPr>
            <a:stCxn id="869" idx="0"/>
            <a:endCxn id="879" idx="3"/>
          </p:cNvCxnSpPr>
          <p:nvPr/>
        </p:nvCxnSpPr>
        <p:spPr>
          <a:xfrm flipV="1">
            <a:off x="2999880" y="4219200"/>
            <a:ext cx="856440" cy="11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2" name=""/>
          <p:cNvCxnSpPr>
            <a:stCxn id="872" idx="0"/>
            <a:endCxn id="870" idx="5"/>
          </p:cNvCxnSpPr>
          <p:nvPr/>
        </p:nvCxnSpPr>
        <p:spPr>
          <a:xfrm flipH="1" flipV="1">
            <a:off x="6000840" y="2647080"/>
            <a:ext cx="660600" cy="114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71" idx="6"/>
            <a:endCxn id="872" idx="3"/>
          </p:cNvCxnSpPr>
          <p:nvPr/>
        </p:nvCxnSpPr>
        <p:spPr>
          <a:xfrm flipV="1">
            <a:off x="6108840" y="4363200"/>
            <a:ext cx="195840" cy="12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1692360" y="3789360"/>
                <a:ext cx="507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843280" y="2205000"/>
                <a:ext cx="333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916360" y="5445000"/>
                <a:ext cx="234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5627520" y="2205000"/>
                <a:ext cx="381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5651640" y="5445000"/>
                <a:ext cx="276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6516720" y="3933720"/>
                <a:ext cx="426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692360" y="2852640"/>
                <a:ext cx="536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0" y="45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08360" y="3645000"/>
            <a:ext cx="1008000" cy="6728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67" idx="6"/>
            <a:endCxn id="870" idx="4"/>
          </p:cNvCxnSpPr>
          <p:nvPr/>
        </p:nvCxnSpPr>
        <p:spPr>
          <a:xfrm flipV="1">
            <a:off x="2341440" y="2734920"/>
            <a:ext cx="345672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2" name=""/>
          <p:cNvCxnSpPr>
            <a:stCxn id="879" idx="7"/>
            <a:endCxn id="870" idx="4"/>
          </p:cNvCxnSpPr>
          <p:nvPr/>
        </p:nvCxnSpPr>
        <p:spPr>
          <a:xfrm flipV="1">
            <a:off x="4568400" y="2734920"/>
            <a:ext cx="12294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3" name=""/>
          <p:cNvCxnSpPr>
            <a:stCxn id="872" idx="0"/>
            <a:endCxn id="868" idx="6"/>
          </p:cNvCxnSpPr>
          <p:nvPr/>
        </p:nvCxnSpPr>
        <p:spPr>
          <a:xfrm flipH="1" flipV="1">
            <a:off x="3299760" y="2433600"/>
            <a:ext cx="336132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3892680" y="3789360"/>
                <a:ext cx="571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2771640" y="3213000"/>
                <a:ext cx="568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419640" y="2708280"/>
                <a:ext cx="568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916520" y="3284640"/>
                <a:ext cx="600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140360" y="2349360"/>
                <a:ext cx="56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6300720" y="2852640"/>
                <a:ext cx="600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6156360" y="4869000"/>
                <a:ext cx="60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5508720" y="4724280"/>
                <a:ext cx="600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788000" y="5084640"/>
                <a:ext cx="568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35280" y="4869000"/>
                <a:ext cx="536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700360" y="4653000"/>
                <a:ext cx="568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708360" y="5359320"/>
                <a:ext cx="568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250920" y="2060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77080" y="2060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输出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或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8720" y="378936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隐单元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667640" y="5445000"/>
            <a:ext cx="122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输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0920" y="371628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j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0920" y="5373720"/>
            <a:ext cx="9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k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236000" y="2852640"/>
                <a:ext cx="50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261200" y="4722840"/>
                <a:ext cx="601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2411280" y="602136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角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219640" y="6021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翅膀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395280" y="404640"/>
                <a:ext cx="3344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A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6540480" y="2192400"/>
                <a:ext cx="333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7308720" y="5576760"/>
                <a:ext cx="276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5292720" y="404640"/>
                <a:ext cx="3533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Ap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51080" y="907920"/>
            <a:ext cx="6245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多层前传网络</a:t>
            </a: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(</a:t>
            </a: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第二步</a:t>
            </a: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04000" y="119700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0920" y="263700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中间层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0920" y="2060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输入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979640" y="2060640"/>
                <a:ext cx="1584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7451640" y="119700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个样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7308720" y="1413000"/>
                <a:ext cx="285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11280" y="2637000"/>
                <a:ext cx="278136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>
            <a:off x="250920" y="32130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输出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050920" y="3213000"/>
                <a:ext cx="1816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6254640" y="2637000"/>
                <a:ext cx="2889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1042920" y="3789360"/>
                <a:ext cx="6254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427640" y="3213000"/>
            <a:ext cx="28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理想输出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948360" y="3284640"/>
                <a:ext cx="540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324000" y="4508640"/>
            <a:ext cx="50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140360" y="206064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所有权组成的向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7451640" y="2205000"/>
                <a:ext cx="379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826920" y="4653000"/>
                <a:ext cx="379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42920" y="4508640"/>
            <a:ext cx="61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使得实际输出与理想输出的差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67640" y="4508640"/>
            <a:ext cx="172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最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6877080" y="4581360"/>
                <a:ext cx="9158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050920" y="5084640"/>
                <a:ext cx="5023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351080" y="907920"/>
            <a:ext cx="6245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多层前传网络</a:t>
            </a: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(</a:t>
            </a:r>
            <a:r>
              <a:rPr b="0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第三步</a:t>
            </a:r>
            <a:r>
              <a:rPr b="0" lang="en-US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0920" y="2060640"/>
            <a:ext cx="80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算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向后传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-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最速下降，叠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4000" y="2708280"/>
                <a:ext cx="9158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1187280" y="2637000"/>
            <a:ext cx="172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最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4000" y="3284640"/>
            <a:ext cx="352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给定一个初始权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67280" y="3284640"/>
            <a:ext cx="39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计算负梯度方向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3708360" y="3357720"/>
                <a:ext cx="4730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7567560" y="3357720"/>
                <a:ext cx="1576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09560" y="3933720"/>
                <a:ext cx="2963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∇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468360" y="4581360"/>
                <a:ext cx="3157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2" name=""/>
          <p:cNvSpPr/>
          <p:nvPr/>
        </p:nvSpPr>
        <p:spPr>
          <a:xfrm>
            <a:off x="611280" y="443700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为参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足够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51280" y="443700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从而可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203640" y="5300640"/>
                <a:ext cx="2306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结  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684360" y="2286000"/>
            <a:ext cx="80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难点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具体问题中的应用，最具挑战性的部分是模型的构造，其次是算法的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构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没有现成的模式可依，只能根据问题的具体条件来分析。这需要对各种模型的性质了如指掌，并且归纳总结一些经验，发挥我们的创造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优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算法的重要环节，它并非朝夕之功就能提高，必须靠经验的积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1547280" y="2060640"/>
            <a:ext cx="6859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建模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求思路清晰、处理恰当、构思新颖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分析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数学应用合理恰当，应用知识综合，内容丰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结论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广度、深度、实用程度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达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文字通顺、语言流畅、论述简洁、推理严谨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title"/>
          </p:nvPr>
        </p:nvSpPr>
        <p:spPr>
          <a:xfrm>
            <a:off x="394920" y="33336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华文新魏"/>
                <a:ea typeface="华文新魏"/>
              </a:rPr>
              <a:t>论  文  要  求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论  文  格  式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70572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作者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0" lang="en-US" sz="2800" spc="-1" strike="noStrike">
                <a:solidFill>
                  <a:srgbClr val="111111"/>
                </a:solidFill>
                <a:latin typeface="华文隶书"/>
                <a:ea typeface="华文隶书"/>
              </a:rPr>
              <a:t>2004</a:t>
            </a:r>
            <a:r>
              <a:rPr b="0" lang="zh-CN" sz="2800" spc="-1" strike="noStrike">
                <a:solidFill>
                  <a:srgbClr val="111111"/>
                </a:solidFill>
                <a:latin typeface="华文隶书"/>
                <a:ea typeface="华文隶书"/>
              </a:rPr>
              <a:t>级 班级 学号</a:t>
            </a:r>
            <a:r>
              <a:rPr b="0" lang="zh-CN" sz="3200" spc="-1" strike="noStrike">
                <a:solidFill>
                  <a:srgbClr val="111111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山</a:t>
            </a:r>
            <a:r>
              <a:rPr b="0" lang="zh-CN" sz="2800" spc="-1" strike="noStrike">
                <a:solidFill>
                  <a:srgbClr val="111111"/>
                </a:solidFill>
                <a:latin typeface="华文隶书"/>
                <a:ea typeface="华文隶书"/>
              </a:rPr>
              <a:t>大学数学与计算科学学院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摘要</a:t>
            </a:r>
            <a:r>
              <a:rPr b="1" lang="en-US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为限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关键词：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为限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正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附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111111"/>
                </a:solidFill>
                <a:latin typeface="仿宋_GB2312"/>
                <a:ea typeface="仿宋_GB2312"/>
              </a:rPr>
              <a:t>不是每篇文章必有附件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华文隶书"/>
                <a:ea typeface="楷体_GB2312"/>
              </a:rPr>
              <a:t>参考文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1258920" y="2060280"/>
            <a:ext cx="7391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正文部分包括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引言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111111"/>
                </a:solidFill>
                <a:latin typeface="仿宋_GB2312"/>
                <a:ea typeface="仿宋_GB2312"/>
              </a:rPr>
              <a:t>问题的提出及其背景，问题的研究现状，数据的说明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模型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111111"/>
                </a:solidFill>
                <a:latin typeface="仿宋_GB2312"/>
                <a:ea typeface="仿宋_GB2312"/>
              </a:rPr>
              <a:t>问题的化简和假设，组建模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分析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111111"/>
                </a:solidFill>
                <a:latin typeface="仿宋_GB2312"/>
                <a:ea typeface="仿宋_GB2312"/>
              </a:rPr>
              <a:t>推理、计算（算法）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归纳、总结、</a:t>
            </a:r>
            <a:r>
              <a:rPr b="1" lang="zh-CN" sz="3200" spc="-1" strike="noStrike">
                <a:solidFill>
                  <a:srgbClr val="111111"/>
                </a:solidFill>
                <a:latin typeface="仿宋_GB2312"/>
                <a:ea typeface="仿宋_GB2312"/>
              </a:rPr>
              <a:t>检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结论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111111"/>
                </a:solidFill>
                <a:latin typeface="仿宋_GB2312"/>
                <a:ea typeface="仿宋_GB2312"/>
              </a:rPr>
              <a:t>数学的结论，问题的结论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ff"/>
                </a:solidFill>
                <a:uFillTx/>
                <a:latin typeface="Tahoma"/>
              </a:rPr>
              <a:t>进一步的探讨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模型的优点、适用范围、对课题的展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68263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1]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雷功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数学模型讲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北京大学出版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200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2]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姜启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学模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高等教育出版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 200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3]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谭永基、俞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鱼此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学模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旦大学出版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199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4]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叶其孝，大学生数学建模竞赛辅导教材，湖南教育出版社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1258920" y="981000"/>
            <a:ext cx="2789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华文隶书"/>
              </a:rPr>
              <a:t>参考文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哥尼斯堡七桥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63480" y="2474640"/>
            <a:ext cx="6629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676520" y="2743200"/>
            <a:ext cx="152280" cy="1440"/>
          </a:xfrm>
          <a:custGeom>
            <a:avLst/>
            <a:gdLst/>
            <a:ahLst/>
            <a:rect l="l" t="t" r="r" b="b"/>
            <a:pathLst>
              <a:path w="96" h="1">
                <a:moveTo>
                  <a:pt x="96" y="0"/>
                </a:moveTo>
                <a:cubicBezTo>
                  <a:pt x="96" y="0"/>
                  <a:pt x="0" y="0"/>
                  <a:pt x="0" y="0"/>
                </a:cubicBezTo>
                <a:cubicBezTo>
                  <a:pt x="0" y="0"/>
                  <a:pt x="96" y="0"/>
                  <a:pt x="96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00200" y="2819520"/>
            <a:ext cx="685800" cy="1440"/>
          </a:xfrm>
          <a:custGeom>
            <a:avLst/>
            <a:gdLst/>
            <a:ahLst/>
            <a:rect l="l" t="t" r="r" b="b"/>
            <a:pathLst>
              <a:path w="432" h="1">
                <a:moveTo>
                  <a:pt x="0" y="0"/>
                </a:moveTo>
                <a:cubicBezTo>
                  <a:pt x="0" y="0"/>
                  <a:pt x="432" y="0"/>
                  <a:pt x="432" y="0"/>
                </a:cubicBezTo>
                <a:cubicBezTo>
                  <a:pt x="432" y="0"/>
                  <a:pt x="0" y="0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2754360"/>
            <a:ext cx="1611360" cy="941400"/>
          </a:xfrm>
          <a:custGeom>
            <a:avLst/>
            <a:gdLst/>
            <a:ahLst/>
            <a:rect l="l" t="t" r="r" b="b"/>
            <a:pathLst>
              <a:path w="1015" h="593">
                <a:moveTo>
                  <a:pt x="0" y="101"/>
                </a:moveTo>
                <a:cubicBezTo>
                  <a:pt x="152" y="0"/>
                  <a:pt x="356" y="67"/>
                  <a:pt x="528" y="101"/>
                </a:cubicBezTo>
                <a:cubicBezTo>
                  <a:pt x="566" y="139"/>
                  <a:pt x="579" y="179"/>
                  <a:pt x="624" y="209"/>
                </a:cubicBezTo>
                <a:cubicBezTo>
                  <a:pt x="670" y="278"/>
                  <a:pt x="710" y="354"/>
                  <a:pt x="780" y="401"/>
                </a:cubicBezTo>
                <a:cubicBezTo>
                  <a:pt x="836" y="485"/>
                  <a:pt x="893" y="530"/>
                  <a:pt x="972" y="593"/>
                </a:cubicBezTo>
                <a:cubicBezTo>
                  <a:pt x="1015" y="564"/>
                  <a:pt x="1014" y="582"/>
                  <a:pt x="996" y="54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97080" y="3457440"/>
            <a:ext cx="846360" cy="352440"/>
          </a:xfrm>
          <a:custGeom>
            <a:avLst/>
            <a:gdLst/>
            <a:ahLst/>
            <a:rect l="l" t="t" r="r" b="b"/>
            <a:pathLst>
              <a:path w="533" h="222">
                <a:moveTo>
                  <a:pt x="41" y="222"/>
                </a:moveTo>
                <a:cubicBezTo>
                  <a:pt x="0" y="98"/>
                  <a:pt x="76" y="108"/>
                  <a:pt x="161" y="90"/>
                </a:cubicBezTo>
                <a:cubicBezTo>
                  <a:pt x="287" y="64"/>
                  <a:pt x="407" y="39"/>
                  <a:pt x="533" y="18"/>
                </a:cubicBezTo>
                <a:cubicBezTo>
                  <a:pt x="478" y="0"/>
                  <a:pt x="510" y="6"/>
                  <a:pt x="437" y="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3581280"/>
            <a:ext cx="129528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35812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3276720"/>
            <a:ext cx="144756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3276720"/>
            <a:ext cx="335268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16002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700"/>
                </a:solidFill>
                <a:latin typeface="Tahoma"/>
              </a:rPr>
              <a:t>1736 Konigsberg  Pregel  Eu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19320" y="2666880"/>
          <a:ext cx="70866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7086600" cy="365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23640" y="2060280"/>
            <a:ext cx="8569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8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世纪，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有一条名叫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普莱格尔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regel)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的河流横经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哥尼斯堡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城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Konigsberg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今俄罗斯加里宁格勒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河上建有七座桥，将河中的两个岛和河岸连结，如图所示，城中的居民经常沿河过桥散步，于是提出了一个问题：能否一次走遍七座桥，而每座桥只许通过一次，最后仍回到起始地点。这就是七桥问题，一个著名的图论问题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2637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这个问题看起来似乎不难，但人们始终没有能找到答案，最后问题提到了大数学家欧拉那里。欧拉以深邃的洞察力很快证明了这样的走法不存在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7752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欧拉是这样解决问题的：既然陆地是桥梁的连接地点，不妨把图中被河隔开的陆地看成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个点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 A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座桥表示成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条连接这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个点的线，如图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所示。于是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七桥问题”就等价于图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中所画图形的一笔画问题了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962960" y="6021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7129440" cy="4680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612080" y="183528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23400" y="4797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11640" y="328464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01920" y="32130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07:15:57Z</dcterms:created>
  <dc:creator>姜正禄</dc:creator>
  <dc:description/>
  <dc:language>en-US</dc:language>
  <cp:lastModifiedBy>Jiang Zhenglu</cp:lastModifiedBy>
  <dcterms:modified xsi:type="dcterms:W3CDTF">2010-07-19T09:13:29Z</dcterms:modified>
  <cp:revision>237</cp:revision>
  <dc:subject/>
  <dc:title>蠓虫的分类</dc:title>
</cp:coreProperties>
</file>